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1.wav" ContentType="audio/x-wav"/>
  <Override PartName="/ppt/media/thinktheme.wav" ContentType="audio/x-wav"/>
  <Override PartName="/ppt/media/applause.wav" ContentType="audio/x-wav"/>
  <Override PartName="/ppt/media/boardfill.wav" ContentType="audio/x-wav"/>
  <Override PartName="/ppt/media/WHOOSH.WAV" ContentType="audio/x-wav"/>
  <Override PartName="/ppt/media/doh(1).wav" ContentType="audio/x-wav"/>
  <Override PartName="/ppt/media/image1.jpeg" ContentType="image/jpeg"/>
  <Override PartName="/ppt/media/dailydouble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155448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9E7-8962-4513-9B78-042A20E2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243D-8414-4CB5-B2B2-F735F95D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544-2DFC-4BEA-B23D-67962AA6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28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0124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6532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28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0124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EB9-DC72-4858-A5DA-50F5FF05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3D3-FF9C-47D3-85AC-C037E621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D5F-8832-4284-A5E8-75D4983B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DD0-2C28-43F4-BF85-1C3F8E3E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A9C-222A-4698-A65F-EB271248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5320" y="893880"/>
            <a:ext cx="1321416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C09-F77F-4EDC-9A99-798FFAD3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515-9EBE-48C0-B869-CC1E8C81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F59-759B-4D96-B226-A03D3AF3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1D5-302E-4270-9C7A-D0BAFFB2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53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11800" y="9164160"/>
            <a:ext cx="492120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409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fld id="{E7849953-0CD8-4281-9BBC-D2C0BD394E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1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53.xml"/><Relationship Id="rId3" Type="http://schemas.openxmlformats.org/officeDocument/2006/relationships/slide" Target="slide48.xml"/><Relationship Id="rId4" Type="http://schemas.openxmlformats.org/officeDocument/2006/relationships/slide" Target="slide43.xml"/><Relationship Id="rId5" Type="http://schemas.openxmlformats.org/officeDocument/2006/relationships/slide" Target="slide58.xml"/><Relationship Id="rId6" Type="http://schemas.openxmlformats.org/officeDocument/2006/relationships/slide" Target="slide63.xml"/><Relationship Id="rId7" Type="http://schemas.openxmlformats.org/officeDocument/2006/relationships/slide" Target="slide39.xml"/><Relationship Id="rId8" Type="http://schemas.openxmlformats.org/officeDocument/2006/relationships/slide" Target="slide64.xml"/><Relationship Id="rId9" Type="http://schemas.openxmlformats.org/officeDocument/2006/relationships/slide" Target="slide59.xml"/><Relationship Id="rId10" Type="http://schemas.openxmlformats.org/officeDocument/2006/relationships/slide" Target="slide57.xml"/><Relationship Id="rId11" Type="http://schemas.openxmlformats.org/officeDocument/2006/relationships/slide" Target="slide49.xml"/><Relationship Id="rId12" Type="http://schemas.openxmlformats.org/officeDocument/2006/relationships/slide" Target="slide44.xml"/><Relationship Id="rId13" Type="http://schemas.openxmlformats.org/officeDocument/2006/relationships/slide" Target="slide40.xml"/><Relationship Id="rId14" Type="http://schemas.openxmlformats.org/officeDocument/2006/relationships/slide" Target="slide45.xml"/><Relationship Id="rId15" Type="http://schemas.openxmlformats.org/officeDocument/2006/relationships/slide" Target="slide50.xml"/><Relationship Id="rId16" Type="http://schemas.openxmlformats.org/officeDocument/2006/relationships/slide" Target="slide60.xml"/><Relationship Id="rId17" Type="http://schemas.openxmlformats.org/officeDocument/2006/relationships/slide" Target="slide65.xml"/><Relationship Id="rId18" Type="http://schemas.openxmlformats.org/officeDocument/2006/relationships/slide" Target="slide51.xml"/><Relationship Id="rId19" Type="http://schemas.openxmlformats.org/officeDocument/2006/relationships/slide" Target="slide46.xml"/><Relationship Id="rId20" Type="http://schemas.openxmlformats.org/officeDocument/2006/relationships/slide" Target="slide56.xml"/><Relationship Id="rId21" Type="http://schemas.openxmlformats.org/officeDocument/2006/relationships/slide" Target="slide61.xml"/><Relationship Id="rId22" Type="http://schemas.openxmlformats.org/officeDocument/2006/relationships/slide" Target="slide66.xml"/><Relationship Id="rId23" Type="http://schemas.openxmlformats.org/officeDocument/2006/relationships/slide" Target="slide42.xml"/><Relationship Id="rId24" Type="http://schemas.openxmlformats.org/officeDocument/2006/relationships/slide" Target="slide62.xml"/><Relationship Id="rId25" Type="http://schemas.openxmlformats.org/officeDocument/2006/relationships/slide" Target="slide47.xml"/><Relationship Id="rId26" Type="http://schemas.openxmlformats.org/officeDocument/2006/relationships/slide" Target="slide52.xml"/><Relationship Id="rId27" Type="http://schemas.openxmlformats.org/officeDocument/2006/relationships/slide" Target="slide54.xml"/><Relationship Id="rId28" Type="http://schemas.openxmlformats.org/officeDocument/2006/relationships/slide" Target="slide67.xml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doh(1).wav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6.xml"/><Relationship Id="rId3" Type="http://schemas.openxmlformats.org/officeDocument/2006/relationships/slide" Target="slide11.xml"/><Relationship Id="rId4" Type="http://schemas.openxmlformats.org/officeDocument/2006/relationships/slide" Target="slide26.xml"/><Relationship Id="rId5" Type="http://schemas.openxmlformats.org/officeDocument/2006/relationships/slide" Target="slide31.xml"/><Relationship Id="rId6" Type="http://schemas.openxmlformats.org/officeDocument/2006/relationships/slide" Target="slide7.xml"/><Relationship Id="rId7" Type="http://schemas.openxmlformats.org/officeDocument/2006/relationships/slide" Target="slide32.xml"/><Relationship Id="rId8" Type="http://schemas.openxmlformats.org/officeDocument/2006/relationships/slide" Target="slide27.xml"/><Relationship Id="rId9" Type="http://schemas.openxmlformats.org/officeDocument/2006/relationships/slide" Target="slide22.xml"/><Relationship Id="rId10" Type="http://schemas.openxmlformats.org/officeDocument/2006/relationships/slide" Target="slide17.xml"/><Relationship Id="rId11" Type="http://schemas.openxmlformats.org/officeDocument/2006/relationships/slide" Target="slide12.xml"/><Relationship Id="rId12" Type="http://schemas.openxmlformats.org/officeDocument/2006/relationships/slide" Target="slide6.xml"/><Relationship Id="rId13" Type="http://schemas.openxmlformats.org/officeDocument/2006/relationships/slide" Target="slide13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slide" Target="slide28.xml"/><Relationship Id="rId17" Type="http://schemas.openxmlformats.org/officeDocument/2006/relationships/slide" Target="slide33.xml"/><Relationship Id="rId18" Type="http://schemas.openxmlformats.org/officeDocument/2006/relationships/slide" Target="slide19.xml"/><Relationship Id="rId19" Type="http://schemas.openxmlformats.org/officeDocument/2006/relationships/slide" Target="slide9.xml"/><Relationship Id="rId20" Type="http://schemas.openxmlformats.org/officeDocument/2006/relationships/slide" Target="slide14.xml"/><Relationship Id="rId21" Type="http://schemas.openxmlformats.org/officeDocument/2006/relationships/slide" Target="slide24.xml"/><Relationship Id="rId22" Type="http://schemas.openxmlformats.org/officeDocument/2006/relationships/slide" Target="slide29.xml"/><Relationship Id="rId23" Type="http://schemas.openxmlformats.org/officeDocument/2006/relationships/slide" Target="slide34.xml"/><Relationship Id="rId24" Type="http://schemas.openxmlformats.org/officeDocument/2006/relationships/slide" Target="slide10.xml"/><Relationship Id="rId25" Type="http://schemas.openxmlformats.org/officeDocument/2006/relationships/slide" Target="slide30.xml"/><Relationship Id="rId26" Type="http://schemas.openxmlformats.org/officeDocument/2006/relationships/slide" Target="slide15.xml"/><Relationship Id="rId27" Type="http://schemas.openxmlformats.org/officeDocument/2006/relationships/slide" Target="slide25.xml"/><Relationship Id="rId28" Type="http://schemas.openxmlformats.org/officeDocument/2006/relationships/slide" Target="slide35.xml"/><Relationship Id="rId29" Type="http://schemas.openxmlformats.org/officeDocument/2006/relationships/audio" Target="../media/boardfill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audio" Target="../media/WHOOSH.WAV"/><Relationship Id="rId33" Type="http://schemas.openxmlformats.org/officeDocument/2006/relationships/audio" Target="../media/WHOOSH.WAV"/><Relationship Id="rId3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oh(1).wav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thinktheme.wav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560" y="2133360"/>
            <a:ext cx="10667880" cy="2057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1500"/>
            </a:br>
            <a:br>
              <a:rPr sz="11500"/>
            </a:br>
            <a:r>
              <a:rPr b="0" lang="en-US" sz="11500" spc="-1" strike="noStrike">
                <a:solidFill>
                  <a:srgbClr val="ffffff"/>
                </a:solidFill>
                <a:latin typeface="Impact"/>
              </a:rPr>
              <a:t>Jeopardy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ancient Greek philosopher first came up with the idea of the ato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Robert Milika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6553080" y="777240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19" h="21600">
                <a:moveTo>
                  <a:pt x="142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19" h="21600">
                <a:moveTo>
                  <a:pt x="15315" y="14281"/>
                </a:moveTo>
                <a:lnTo>
                  <a:pt x="15315" y="12323"/>
                </a:lnTo>
                <a:cubicBezTo>
                  <a:pt x="15315" y="11496"/>
                  <a:pt x="15646" y="10800"/>
                  <a:pt x="16246" y="10800"/>
                </a:cubicBezTo>
                <a:cubicBezTo>
                  <a:pt x="17378" y="10800"/>
                  <a:pt x="18274" y="9434"/>
                  <a:pt x="18274" y="7849"/>
                </a:cubicBezTo>
                <a:cubicBezTo>
                  <a:pt x="18274" y="5534"/>
                  <a:pt x="16420" y="3794"/>
                  <a:pt x="14209" y="3794"/>
                </a:cubicBezTo>
                <a:cubicBezTo>
                  <a:pt x="11999" y="3794"/>
                  <a:pt x="10328" y="5534"/>
                  <a:pt x="10328" y="7849"/>
                </a:cubicBezTo>
                <a:lnTo>
                  <a:pt x="12181" y="7849"/>
                </a:lnTo>
                <a:cubicBezTo>
                  <a:pt x="12181" y="6709"/>
                  <a:pt x="13104" y="5821"/>
                  <a:pt x="14209" y="5821"/>
                </a:cubicBezTo>
                <a:cubicBezTo>
                  <a:pt x="15315" y="5821"/>
                  <a:pt x="16246" y="6709"/>
                  <a:pt x="16246" y="7849"/>
                </a:cubicBezTo>
                <a:cubicBezTo>
                  <a:pt x="16246" y="8589"/>
                  <a:pt x="15776" y="9320"/>
                  <a:pt x="15315" y="9320"/>
                </a:cubicBezTo>
                <a:cubicBezTo>
                  <a:pt x="14209" y="9320"/>
                  <a:pt x="13104" y="10800"/>
                  <a:pt x="13104" y="12323"/>
                </a:cubicBezTo>
                <a:lnTo>
                  <a:pt x="1310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does this symbol represent?  p</a:t>
            </a:r>
            <a:r>
              <a:rPr b="0" lang="en-US" sz="7200" spc="-1" strike="noStrike" baseline="30000">
                <a:solidFill>
                  <a:srgbClr val="ffff66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 prot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086600" y="71629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ubatomic particle carries a negative charg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n electr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ubatomic particles occupy the nucleus of the atom?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neutron and the prot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6781680" y="7315200"/>
            <a:ext cx="1752840" cy="1676520"/>
          </a:xfrm>
          <a:custGeom>
            <a:avLst/>
            <a:gdLst>
              <a:gd name="textAreaLeft" fmla="*/ 108360 w 1752840"/>
              <a:gd name="textAreaRight" fmla="*/ 1644480 w 17528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2583" h="21600">
                <a:moveTo>
                  <a:pt x="0" y="0"/>
                </a:moveTo>
                <a:lnTo>
                  <a:pt x="22583" y="0"/>
                </a:lnTo>
                <a:lnTo>
                  <a:pt x="22583" y="21600"/>
                </a:lnTo>
                <a:lnTo>
                  <a:pt x="0" y="21600"/>
                </a:lnTo>
                <a:close/>
              </a:path>
              <a:path fill="lightenLess" w="22583" h="21600">
                <a:moveTo>
                  <a:pt x="0" y="0"/>
                </a:moveTo>
                <a:lnTo>
                  <a:pt x="22583" y="0"/>
                </a:lnTo>
                <a:lnTo>
                  <a:pt x="21183" y="1400"/>
                </a:lnTo>
                <a:lnTo>
                  <a:pt x="1400" y="1400"/>
                </a:lnTo>
                <a:close/>
              </a:path>
              <a:path fill="darken" w="22583" h="21600">
                <a:moveTo>
                  <a:pt x="22583" y="0"/>
                </a:moveTo>
                <a:lnTo>
                  <a:pt x="22583" y="21600"/>
                </a:lnTo>
                <a:lnTo>
                  <a:pt x="21183" y="20200"/>
                </a:lnTo>
                <a:lnTo>
                  <a:pt x="21183" y="1400"/>
                </a:lnTo>
                <a:close/>
              </a:path>
              <a:path fill="darkenLess" w="22583" h="21600">
                <a:moveTo>
                  <a:pt x="22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" y="20200"/>
                </a:lnTo>
                <a:close/>
              </a:path>
              <a:path fill="lighten" w="22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3" h="21600">
                <a:moveTo>
                  <a:pt x="112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583" h="21600">
                <a:moveTo>
                  <a:pt x="12397" y="14281"/>
                </a:moveTo>
                <a:lnTo>
                  <a:pt x="12397" y="12323"/>
                </a:lnTo>
                <a:cubicBezTo>
                  <a:pt x="12397" y="11496"/>
                  <a:pt x="12728" y="10800"/>
                  <a:pt x="13328" y="10800"/>
                </a:cubicBezTo>
                <a:cubicBezTo>
                  <a:pt x="14460" y="10800"/>
                  <a:pt x="15356" y="9434"/>
                  <a:pt x="15356" y="7849"/>
                </a:cubicBezTo>
                <a:cubicBezTo>
                  <a:pt x="15356" y="5534"/>
                  <a:pt x="13502" y="3794"/>
                  <a:pt x="11292" y="3794"/>
                </a:cubicBezTo>
                <a:cubicBezTo>
                  <a:pt x="9081" y="3794"/>
                  <a:pt x="7410" y="5534"/>
                  <a:pt x="7410" y="7849"/>
                </a:cubicBezTo>
                <a:lnTo>
                  <a:pt x="9264" y="7849"/>
                </a:lnTo>
                <a:cubicBezTo>
                  <a:pt x="9264" y="6709"/>
                  <a:pt x="10186" y="5821"/>
                  <a:pt x="11292" y="5821"/>
                </a:cubicBezTo>
                <a:cubicBezTo>
                  <a:pt x="12397" y="5821"/>
                  <a:pt x="13328" y="6709"/>
                  <a:pt x="13328" y="7849"/>
                </a:cubicBezTo>
                <a:cubicBezTo>
                  <a:pt x="13328" y="8589"/>
                  <a:pt x="12858" y="9320"/>
                  <a:pt x="12397" y="9320"/>
                </a:cubicBezTo>
                <a:cubicBezTo>
                  <a:pt x="11292" y="9320"/>
                  <a:pt x="10186" y="10800"/>
                  <a:pt x="10186" y="12323"/>
                </a:cubicBezTo>
                <a:lnTo>
                  <a:pt x="1018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et charge of an ato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Zer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315200" y="73152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ubatomic particle has the smallest mas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elect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6629400" y="7391520"/>
            <a:ext cx="1600200" cy="167616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76160"/>
              <a:gd name="textAreaBottom" fmla="*/ 1572480 h 1676160"/>
            </a:gdLst>
            <a:ahLst/>
            <a:rect l="textAreaLeft" t="textAreaTop" r="textAreaRight" b="textAreaBottom"/>
            <a:pathLst>
              <a:path w="21600" h="22625">
                <a:moveTo>
                  <a:pt x="0" y="0"/>
                </a:moveTo>
                <a:lnTo>
                  <a:pt x="21600" y="0"/>
                </a:lnTo>
                <a:lnTo>
                  <a:pt x="21600" y="22625"/>
                </a:lnTo>
                <a:lnTo>
                  <a:pt x="0" y="22625"/>
                </a:lnTo>
                <a:close/>
              </a:path>
              <a:path fill="lightenLess" w="21600" h="22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5">
                <a:moveTo>
                  <a:pt x="21600" y="0"/>
                </a:moveTo>
                <a:lnTo>
                  <a:pt x="21600" y="22625"/>
                </a:lnTo>
                <a:lnTo>
                  <a:pt x="20200" y="21225"/>
                </a:lnTo>
                <a:lnTo>
                  <a:pt x="20200" y="1400"/>
                </a:lnTo>
                <a:close/>
              </a:path>
              <a:path fill="darkenLess" w="21600" h="22625">
                <a:moveTo>
                  <a:pt x="21600" y="22625"/>
                </a:moveTo>
                <a:lnTo>
                  <a:pt x="0" y="22625"/>
                </a:lnTo>
                <a:lnTo>
                  <a:pt x="1400" y="21225"/>
                </a:lnTo>
                <a:lnTo>
                  <a:pt x="20200" y="21225"/>
                </a:lnTo>
                <a:close/>
              </a:path>
              <a:path fill="lighten" w="21600" h="22625">
                <a:moveTo>
                  <a:pt x="0" y="22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5"/>
                </a:lnTo>
                <a:close/>
              </a:path>
              <a:path fill="darken" w="21600" h="22625">
                <a:moveTo>
                  <a:pt x="10800" y="1531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25">
                <a:moveTo>
                  <a:pt x="11905" y="14794"/>
                </a:moveTo>
                <a:lnTo>
                  <a:pt x="11905" y="12836"/>
                </a:lnTo>
                <a:cubicBezTo>
                  <a:pt x="11905" y="12009"/>
                  <a:pt x="12236" y="11313"/>
                  <a:pt x="12837" y="11313"/>
                </a:cubicBezTo>
                <a:cubicBezTo>
                  <a:pt x="13968" y="11313"/>
                  <a:pt x="14865" y="9946"/>
                  <a:pt x="14865" y="8362"/>
                </a:cubicBezTo>
                <a:cubicBezTo>
                  <a:pt x="14865" y="6047"/>
                  <a:pt x="13011" y="4306"/>
                  <a:pt x="10800" y="4306"/>
                </a:cubicBezTo>
                <a:cubicBezTo>
                  <a:pt x="8589" y="4306"/>
                  <a:pt x="6918" y="6047"/>
                  <a:pt x="6918" y="8362"/>
                </a:cubicBezTo>
                <a:lnTo>
                  <a:pt x="8772" y="8362"/>
                </a:lnTo>
                <a:cubicBezTo>
                  <a:pt x="8772" y="7222"/>
                  <a:pt x="9695" y="6334"/>
                  <a:pt x="10800" y="6334"/>
                </a:cubicBezTo>
                <a:cubicBezTo>
                  <a:pt x="11905" y="6334"/>
                  <a:pt x="12837" y="7222"/>
                  <a:pt x="12837" y="8362"/>
                </a:cubicBezTo>
                <a:cubicBezTo>
                  <a:pt x="12837" y="9102"/>
                  <a:pt x="12367" y="9833"/>
                  <a:pt x="11905" y="9833"/>
                </a:cubicBezTo>
                <a:cubicBezTo>
                  <a:pt x="10800" y="9833"/>
                  <a:pt x="9695" y="11313"/>
                  <a:pt x="9695" y="12836"/>
                </a:cubicBezTo>
                <a:lnTo>
                  <a:pt x="9695" y="1479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 What is the mass number equal to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# of protons + # of neutr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7086600" y="73915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nformation on the periodic table relays how many protons there are in an ato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Atomic numb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6934320" y="7696080"/>
            <a:ext cx="1676160" cy="1447920"/>
          </a:xfrm>
          <a:custGeom>
            <a:avLst/>
            <a:gdLst>
              <a:gd name="textAreaLeft" fmla="*/ 93600 w 1676160"/>
              <a:gd name="textAreaRight" fmla="*/ 1582560 w 16761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4" h="21600">
                <a:moveTo>
                  <a:pt x="0" y="0"/>
                </a:moveTo>
                <a:lnTo>
                  <a:pt x="25004" y="0"/>
                </a:lnTo>
                <a:lnTo>
                  <a:pt x="25004" y="21600"/>
                </a:lnTo>
                <a:lnTo>
                  <a:pt x="0" y="21600"/>
                </a:lnTo>
                <a:close/>
              </a:path>
              <a:path fill="lightenLess" w="25004" h="21600">
                <a:moveTo>
                  <a:pt x="0" y="0"/>
                </a:moveTo>
                <a:lnTo>
                  <a:pt x="25004" y="0"/>
                </a:lnTo>
                <a:lnTo>
                  <a:pt x="23604" y="1400"/>
                </a:lnTo>
                <a:lnTo>
                  <a:pt x="1400" y="1400"/>
                </a:lnTo>
                <a:close/>
              </a:path>
              <a:path fill="darken" w="25004" h="21600">
                <a:moveTo>
                  <a:pt x="25004" y="0"/>
                </a:moveTo>
                <a:lnTo>
                  <a:pt x="25004" y="21600"/>
                </a:lnTo>
                <a:lnTo>
                  <a:pt x="23604" y="20200"/>
                </a:lnTo>
                <a:lnTo>
                  <a:pt x="23604" y="1400"/>
                </a:lnTo>
                <a:close/>
              </a:path>
              <a:path fill="darkenLess" w="25004" h="21600">
                <a:moveTo>
                  <a:pt x="25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4" y="20200"/>
                </a:lnTo>
                <a:close/>
              </a:path>
              <a:path fill="lighten" w="25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4" h="21600">
                <a:moveTo>
                  <a:pt x="1250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04" h="21600">
                <a:moveTo>
                  <a:pt x="13607" y="14281"/>
                </a:moveTo>
                <a:lnTo>
                  <a:pt x="13607" y="12323"/>
                </a:lnTo>
                <a:cubicBezTo>
                  <a:pt x="13607" y="11496"/>
                  <a:pt x="13938" y="10800"/>
                  <a:pt x="14539" y="10800"/>
                </a:cubicBezTo>
                <a:cubicBezTo>
                  <a:pt x="15670" y="10800"/>
                  <a:pt x="16567" y="9434"/>
                  <a:pt x="16567" y="7849"/>
                </a:cubicBezTo>
                <a:cubicBezTo>
                  <a:pt x="16567" y="5534"/>
                  <a:pt x="14713" y="3794"/>
                  <a:pt x="12502" y="3794"/>
                </a:cubicBezTo>
                <a:cubicBezTo>
                  <a:pt x="10291" y="3794"/>
                  <a:pt x="8620" y="5534"/>
                  <a:pt x="8620" y="7849"/>
                </a:cubicBezTo>
                <a:lnTo>
                  <a:pt x="10474" y="7849"/>
                </a:lnTo>
                <a:cubicBezTo>
                  <a:pt x="10474" y="6709"/>
                  <a:pt x="11397" y="5821"/>
                  <a:pt x="12502" y="5821"/>
                </a:cubicBezTo>
                <a:cubicBezTo>
                  <a:pt x="13607" y="5821"/>
                  <a:pt x="14539" y="6709"/>
                  <a:pt x="14539" y="7849"/>
                </a:cubicBezTo>
                <a:cubicBezTo>
                  <a:pt x="14539" y="8589"/>
                  <a:pt x="14069" y="9320"/>
                  <a:pt x="13607" y="9320"/>
                </a:cubicBezTo>
                <a:cubicBezTo>
                  <a:pt x="12502" y="9320"/>
                  <a:pt x="11397" y="10800"/>
                  <a:pt x="11397" y="12323"/>
                </a:cubicBezTo>
                <a:lnTo>
                  <a:pt x="1139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are the number of electrons in an atom determin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number of electrons is equal to the number of prot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7315200" y="784872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would the element with 5p</a:t>
            </a:r>
            <a:r>
              <a:rPr b="0" lang="en-US" sz="7200" spc="-1" strike="noStrike" baseline="30000">
                <a:solidFill>
                  <a:srgbClr val="ffff66"/>
                </a:solidFill>
                <a:latin typeface="Times New Roman"/>
              </a:rPr>
              <a:t>+</a:t>
            </a: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, 5e</a:t>
            </a:r>
            <a:r>
              <a:rPr b="0" lang="en-US" sz="7200" spc="-1" strike="noStrike" baseline="30000">
                <a:solidFill>
                  <a:srgbClr val="ffff66"/>
                </a:solidFill>
                <a:latin typeface="Times New Roman"/>
              </a:rPr>
              <a:t>-</a:t>
            </a: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 and 6n</a:t>
            </a:r>
            <a:r>
              <a:rPr b="0" lang="en-US" sz="7200" spc="-1" strike="noStrike" baseline="30000">
                <a:solidFill>
                  <a:srgbClr val="ffff66"/>
                </a:solidFill>
                <a:latin typeface="Times New Roman"/>
              </a:rPr>
              <a:t>0 </a:t>
            </a: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 be represented in isotope notat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B-1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162920" y="6781680"/>
            <a:ext cx="1676160" cy="1371600"/>
          </a:xfrm>
          <a:custGeom>
            <a:avLst/>
            <a:gdLst>
              <a:gd name="textAreaLeft" fmla="*/ 88920 w 1676160"/>
              <a:gd name="textAreaRight" fmla="*/ 1587240 w 16761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5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5" h="21600">
                <a:moveTo>
                  <a:pt x="14303" y="14281"/>
                </a:moveTo>
                <a:lnTo>
                  <a:pt x="14303" y="12323"/>
                </a:lnTo>
                <a:cubicBezTo>
                  <a:pt x="14303" y="11496"/>
                  <a:pt x="14634" y="10800"/>
                  <a:pt x="15234" y="10800"/>
                </a:cubicBezTo>
                <a:cubicBezTo>
                  <a:pt x="16366" y="10800"/>
                  <a:pt x="17262" y="9434"/>
                  <a:pt x="17262" y="7849"/>
                </a:cubicBezTo>
                <a:cubicBezTo>
                  <a:pt x="17262" y="5534"/>
                  <a:pt x="15408" y="3794"/>
                  <a:pt x="13197" y="3794"/>
                </a:cubicBezTo>
                <a:cubicBezTo>
                  <a:pt x="10987" y="3794"/>
                  <a:pt x="9316" y="5534"/>
                  <a:pt x="9316" y="7849"/>
                </a:cubicBezTo>
                <a:lnTo>
                  <a:pt x="11170" y="7849"/>
                </a:lnTo>
                <a:cubicBezTo>
                  <a:pt x="11170" y="6709"/>
                  <a:pt x="12092" y="5821"/>
                  <a:pt x="13197" y="5821"/>
                </a:cubicBezTo>
                <a:cubicBezTo>
                  <a:pt x="14303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3" y="9320"/>
                </a:cubicBezTo>
                <a:cubicBezTo>
                  <a:pt x="13197" y="9320"/>
                  <a:pt x="12092" y="10800"/>
                  <a:pt x="12092" y="12323"/>
                </a:cubicBezTo>
                <a:lnTo>
                  <a:pt x="12092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1321452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8800" spc="-1" strike="noStrike" u="sng">
                <a:solidFill>
                  <a:srgbClr val="ffffff"/>
                </a:solidFill>
                <a:uFillTx/>
                <a:latin typeface="Times New Roman"/>
              </a:rPr>
              <a:t>GAME RULES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13214520" cy="7848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om split into 2 teams (RIGHT Vs. LEF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nner of the coin toss decides the firs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ch team will have 1 person compete at a ti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the team answers incorrectly the other team has a chance to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think you know the answer raise your h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core will be kept on th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re is 1 Daily Double question in the first round, 2 in Double Jeopardy, which are worth any amount that the team wishes to b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particles occupies the largest volume of the ato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The electr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7162920" y="754380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148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5">
                <a:moveTo>
                  <a:pt x="11905" y="14284"/>
                </a:moveTo>
                <a:lnTo>
                  <a:pt x="11905" y="12326"/>
                </a:lnTo>
                <a:cubicBezTo>
                  <a:pt x="11905" y="11499"/>
                  <a:pt x="12236" y="10803"/>
                  <a:pt x="12837" y="10803"/>
                </a:cubicBezTo>
                <a:cubicBezTo>
                  <a:pt x="13968" y="10803"/>
                  <a:pt x="14865" y="9436"/>
                  <a:pt x="14865" y="7852"/>
                </a:cubicBezTo>
                <a:cubicBezTo>
                  <a:pt x="14865" y="5537"/>
                  <a:pt x="13011" y="3796"/>
                  <a:pt x="10800" y="3796"/>
                </a:cubicBezTo>
                <a:cubicBezTo>
                  <a:pt x="8589" y="3796"/>
                  <a:pt x="6918" y="5537"/>
                  <a:pt x="6918" y="7852"/>
                </a:cubicBezTo>
                <a:lnTo>
                  <a:pt x="8772" y="7852"/>
                </a:lnTo>
                <a:cubicBezTo>
                  <a:pt x="8772" y="6712"/>
                  <a:pt x="9695" y="5824"/>
                  <a:pt x="10800" y="5824"/>
                </a:cubicBezTo>
                <a:cubicBezTo>
                  <a:pt x="11905" y="5824"/>
                  <a:pt x="12837" y="6712"/>
                  <a:pt x="12837" y="7852"/>
                </a:cubicBezTo>
                <a:cubicBezTo>
                  <a:pt x="12837" y="8592"/>
                  <a:pt x="12367" y="9323"/>
                  <a:pt x="11905" y="9323"/>
                </a:cubicBezTo>
                <a:cubicBezTo>
                  <a:pt x="10800" y="9323"/>
                  <a:pt x="9695" y="10803"/>
                  <a:pt x="9695" y="12326"/>
                </a:cubicBezTo>
                <a:lnTo>
                  <a:pt x="9695" y="1428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ubatomic particle varies from one isotope to anothe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neutr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7010280" y="7162920"/>
            <a:ext cx="1524240" cy="121896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7008" h="21600">
                <a:moveTo>
                  <a:pt x="0" y="0"/>
                </a:moveTo>
                <a:lnTo>
                  <a:pt x="27008" y="0"/>
                </a:lnTo>
                <a:lnTo>
                  <a:pt x="27008" y="21600"/>
                </a:lnTo>
                <a:lnTo>
                  <a:pt x="0" y="21600"/>
                </a:lnTo>
                <a:close/>
              </a:path>
              <a:path fill="lightenLess" w="27008" h="21600">
                <a:moveTo>
                  <a:pt x="0" y="0"/>
                </a:moveTo>
                <a:lnTo>
                  <a:pt x="27008" y="0"/>
                </a:lnTo>
                <a:lnTo>
                  <a:pt x="25608" y="1400"/>
                </a:lnTo>
                <a:lnTo>
                  <a:pt x="1400" y="1400"/>
                </a:lnTo>
                <a:close/>
              </a:path>
              <a:path fill="darken" w="27008" h="21600">
                <a:moveTo>
                  <a:pt x="27008" y="0"/>
                </a:moveTo>
                <a:lnTo>
                  <a:pt x="27008" y="21600"/>
                </a:lnTo>
                <a:lnTo>
                  <a:pt x="25608" y="20200"/>
                </a:lnTo>
                <a:lnTo>
                  <a:pt x="25608" y="1400"/>
                </a:lnTo>
                <a:close/>
              </a:path>
              <a:path fill="darkenLess" w="27008" h="21600">
                <a:moveTo>
                  <a:pt x="27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8" y="20200"/>
                </a:lnTo>
                <a:close/>
              </a:path>
              <a:path fill="lighten" w="27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8" h="21600">
                <a:moveTo>
                  <a:pt x="135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8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40" y="10800"/>
                  <a:pt x="15541" y="10800"/>
                </a:cubicBezTo>
                <a:cubicBezTo>
                  <a:pt x="16672" y="10800"/>
                  <a:pt x="17569" y="9434"/>
                  <a:pt x="17569" y="7849"/>
                </a:cubicBezTo>
                <a:cubicBezTo>
                  <a:pt x="17569" y="5534"/>
                  <a:pt x="15715" y="3794"/>
                  <a:pt x="13504" y="3794"/>
                </a:cubicBezTo>
                <a:cubicBezTo>
                  <a:pt x="11293" y="3794"/>
                  <a:pt x="9622" y="5534"/>
                  <a:pt x="9622" y="7849"/>
                </a:cubicBezTo>
                <a:lnTo>
                  <a:pt x="11476" y="7849"/>
                </a:lnTo>
                <a:cubicBezTo>
                  <a:pt x="11476" y="6709"/>
                  <a:pt x="12399" y="5821"/>
                  <a:pt x="13504" y="5821"/>
                </a:cubicBezTo>
                <a:cubicBezTo>
                  <a:pt x="14609" y="5821"/>
                  <a:pt x="15541" y="6709"/>
                  <a:pt x="15541" y="7849"/>
                </a:cubicBezTo>
                <a:cubicBezTo>
                  <a:pt x="15541" y="8589"/>
                  <a:pt x="15071" y="9320"/>
                  <a:pt x="14609" y="9320"/>
                </a:cubicBezTo>
                <a:cubicBezTo>
                  <a:pt x="13504" y="9320"/>
                  <a:pt x="12399" y="10800"/>
                  <a:pt x="12399" y="12323"/>
                </a:cubicBezTo>
                <a:lnTo>
                  <a:pt x="12399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measurement is affected by the differing number of neutrons in isotop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mass numb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67057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atomic number of an element that contains 8 electr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73915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119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7" h="21600">
                <a:moveTo>
                  <a:pt x="13104" y="14281"/>
                </a:moveTo>
                <a:lnTo>
                  <a:pt x="13104" y="12323"/>
                </a:lnTo>
                <a:cubicBezTo>
                  <a:pt x="13104" y="11496"/>
                  <a:pt x="13435" y="10800"/>
                  <a:pt x="14035" y="10800"/>
                </a:cubicBezTo>
                <a:cubicBezTo>
                  <a:pt x="15167" y="10800"/>
                  <a:pt x="16063" y="9434"/>
                  <a:pt x="16063" y="7849"/>
                </a:cubicBezTo>
                <a:cubicBezTo>
                  <a:pt x="16063" y="5534"/>
                  <a:pt x="14209" y="3794"/>
                  <a:pt x="11999" y="3794"/>
                </a:cubicBezTo>
                <a:cubicBezTo>
                  <a:pt x="9788" y="3794"/>
                  <a:pt x="8117" y="5534"/>
                  <a:pt x="8117" y="7849"/>
                </a:cubicBezTo>
                <a:lnTo>
                  <a:pt x="9971" y="7849"/>
                </a:lnTo>
                <a:cubicBezTo>
                  <a:pt x="9971" y="6709"/>
                  <a:pt x="10893" y="5821"/>
                  <a:pt x="11999" y="5821"/>
                </a:cubicBezTo>
                <a:cubicBezTo>
                  <a:pt x="13104" y="5821"/>
                  <a:pt x="14035" y="6709"/>
                  <a:pt x="14035" y="7849"/>
                </a:cubicBezTo>
                <a:cubicBezTo>
                  <a:pt x="14035" y="8589"/>
                  <a:pt x="13565" y="9320"/>
                  <a:pt x="13104" y="9320"/>
                </a:cubicBezTo>
                <a:cubicBezTo>
                  <a:pt x="11999" y="9320"/>
                  <a:pt x="10893" y="10800"/>
                  <a:pt x="10893" y="12323"/>
                </a:cubicBezTo>
                <a:lnTo>
                  <a:pt x="1089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All atoms of the same element have what in comm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A  The atomic number or number of prot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6477120" y="7772400"/>
            <a:ext cx="2057400" cy="1447920"/>
          </a:xfrm>
          <a:custGeom>
            <a:avLst/>
            <a:gdLst>
              <a:gd name="textAreaLeft" fmla="*/ 93600 w 2057400"/>
              <a:gd name="textAreaRight" fmla="*/ 1963800 w 20574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0690" h="21600">
                <a:moveTo>
                  <a:pt x="0" y="0"/>
                </a:moveTo>
                <a:lnTo>
                  <a:pt x="30690" y="0"/>
                </a:lnTo>
                <a:lnTo>
                  <a:pt x="30690" y="21600"/>
                </a:lnTo>
                <a:lnTo>
                  <a:pt x="0" y="21600"/>
                </a:lnTo>
                <a:close/>
              </a:path>
              <a:path fill="lightenLess" w="30690" h="21600">
                <a:moveTo>
                  <a:pt x="0" y="0"/>
                </a:moveTo>
                <a:lnTo>
                  <a:pt x="30690" y="0"/>
                </a:lnTo>
                <a:lnTo>
                  <a:pt x="29290" y="1400"/>
                </a:lnTo>
                <a:lnTo>
                  <a:pt x="1400" y="1400"/>
                </a:lnTo>
                <a:close/>
              </a:path>
              <a:path fill="darken" w="30690" h="21600">
                <a:moveTo>
                  <a:pt x="30690" y="0"/>
                </a:moveTo>
                <a:lnTo>
                  <a:pt x="30690" y="21600"/>
                </a:lnTo>
                <a:lnTo>
                  <a:pt x="29290" y="20200"/>
                </a:lnTo>
                <a:lnTo>
                  <a:pt x="29290" y="1400"/>
                </a:lnTo>
                <a:close/>
              </a:path>
              <a:path fill="darkenLess" w="30690" h="21600">
                <a:moveTo>
                  <a:pt x="30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0" y="20200"/>
                </a:lnTo>
                <a:close/>
              </a:path>
              <a:path fill="lighten" w="30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0" h="21600">
                <a:moveTo>
                  <a:pt x="153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90" h="21600">
                <a:moveTo>
                  <a:pt x="16450" y="14281"/>
                </a:moveTo>
                <a:lnTo>
                  <a:pt x="16450" y="12323"/>
                </a:lnTo>
                <a:cubicBezTo>
                  <a:pt x="16450" y="11496"/>
                  <a:pt x="16781" y="10800"/>
                  <a:pt x="17382" y="10800"/>
                </a:cubicBezTo>
                <a:cubicBezTo>
                  <a:pt x="18513" y="10800"/>
                  <a:pt x="19410" y="9434"/>
                  <a:pt x="19410" y="7849"/>
                </a:cubicBezTo>
                <a:cubicBezTo>
                  <a:pt x="19410" y="5534"/>
                  <a:pt x="17556" y="3794"/>
                  <a:pt x="15345" y="3794"/>
                </a:cubicBezTo>
                <a:cubicBezTo>
                  <a:pt x="13134" y="3794"/>
                  <a:pt x="11463" y="5534"/>
                  <a:pt x="11463" y="7849"/>
                </a:cubicBezTo>
                <a:lnTo>
                  <a:pt x="13317" y="7849"/>
                </a:lnTo>
                <a:cubicBezTo>
                  <a:pt x="13317" y="6709"/>
                  <a:pt x="14240" y="5821"/>
                  <a:pt x="15345" y="5821"/>
                </a:cubicBezTo>
                <a:cubicBezTo>
                  <a:pt x="16450" y="5821"/>
                  <a:pt x="17382" y="6709"/>
                  <a:pt x="17382" y="7849"/>
                </a:cubicBezTo>
                <a:cubicBezTo>
                  <a:pt x="17382" y="8589"/>
                  <a:pt x="16912" y="9320"/>
                  <a:pt x="16450" y="9320"/>
                </a:cubicBezTo>
                <a:cubicBezTo>
                  <a:pt x="15345" y="9320"/>
                  <a:pt x="14240" y="10800"/>
                  <a:pt x="14240" y="12323"/>
                </a:cubicBezTo>
                <a:lnTo>
                  <a:pt x="1424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many neutrons are there in F-21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7010280" y="716292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12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99" h="21600">
                <a:moveTo>
                  <a:pt x="13705" y="14281"/>
                </a:moveTo>
                <a:lnTo>
                  <a:pt x="13705" y="12323"/>
                </a:lnTo>
                <a:cubicBezTo>
                  <a:pt x="13705" y="11496"/>
                  <a:pt x="14036" y="10800"/>
                  <a:pt x="14636" y="10800"/>
                </a:cubicBezTo>
                <a:cubicBezTo>
                  <a:pt x="15768" y="10800"/>
                  <a:pt x="16664" y="9434"/>
                  <a:pt x="16664" y="7849"/>
                </a:cubicBezTo>
                <a:cubicBezTo>
                  <a:pt x="16664" y="5534"/>
                  <a:pt x="14810" y="3794"/>
                  <a:pt x="12600" y="3794"/>
                </a:cubicBezTo>
                <a:cubicBezTo>
                  <a:pt x="10389" y="3794"/>
                  <a:pt x="8718" y="5534"/>
                  <a:pt x="8718" y="7849"/>
                </a:cubicBezTo>
                <a:lnTo>
                  <a:pt x="10572" y="7849"/>
                </a:lnTo>
                <a:cubicBezTo>
                  <a:pt x="10572" y="6709"/>
                  <a:pt x="11494" y="5821"/>
                  <a:pt x="12600" y="5821"/>
                </a:cubicBezTo>
                <a:cubicBezTo>
                  <a:pt x="13705" y="5821"/>
                  <a:pt x="14636" y="6709"/>
                  <a:pt x="14636" y="7849"/>
                </a:cubicBezTo>
                <a:cubicBezTo>
                  <a:pt x="14636" y="8589"/>
                  <a:pt x="14166" y="9320"/>
                  <a:pt x="13705" y="9320"/>
                </a:cubicBezTo>
                <a:cubicBezTo>
                  <a:pt x="12600" y="9320"/>
                  <a:pt x="11494" y="10800"/>
                  <a:pt x="11494" y="12323"/>
                </a:cubicBezTo>
                <a:lnTo>
                  <a:pt x="1149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a modern day application of the cathode ray tub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Television, radio, computer monito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6705720" y="7391520"/>
            <a:ext cx="1447560" cy="144756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of the process by which an atom of one element is converted to an atom of another ele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ransmut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543800" y="7543800"/>
            <a:ext cx="1600200" cy="1447920"/>
          </a:xfrm>
          <a:custGeom>
            <a:avLst/>
            <a:gdLst>
              <a:gd name="textAreaLeft" fmla="*/ 93600 w 1600200"/>
              <a:gd name="textAreaRight" fmla="*/ 1506600 w 16002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3871" h="21600">
                <a:moveTo>
                  <a:pt x="0" y="0"/>
                </a:moveTo>
                <a:lnTo>
                  <a:pt x="23871" y="0"/>
                </a:lnTo>
                <a:lnTo>
                  <a:pt x="23871" y="21600"/>
                </a:lnTo>
                <a:lnTo>
                  <a:pt x="0" y="21600"/>
                </a:lnTo>
                <a:close/>
              </a:path>
              <a:path fill="lightenLess" w="23871" h="21600">
                <a:moveTo>
                  <a:pt x="0" y="0"/>
                </a:moveTo>
                <a:lnTo>
                  <a:pt x="23871" y="0"/>
                </a:lnTo>
                <a:lnTo>
                  <a:pt x="22471" y="1400"/>
                </a:lnTo>
                <a:lnTo>
                  <a:pt x="1400" y="1400"/>
                </a:lnTo>
                <a:close/>
              </a:path>
              <a:path fill="darken" w="23871" h="21600">
                <a:moveTo>
                  <a:pt x="23871" y="0"/>
                </a:moveTo>
                <a:lnTo>
                  <a:pt x="23871" y="21600"/>
                </a:lnTo>
                <a:lnTo>
                  <a:pt x="22471" y="20200"/>
                </a:lnTo>
                <a:lnTo>
                  <a:pt x="22471" y="1400"/>
                </a:lnTo>
                <a:close/>
              </a:path>
              <a:path fill="darkenLess" w="23871" h="21600">
                <a:moveTo>
                  <a:pt x="23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1" y="20200"/>
                </a:lnTo>
                <a:close/>
              </a:path>
              <a:path fill="lighten" w="23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1" h="21600">
                <a:moveTo>
                  <a:pt x="119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71" h="21600">
                <a:moveTo>
                  <a:pt x="13041" y="14281"/>
                </a:moveTo>
                <a:lnTo>
                  <a:pt x="13041" y="12323"/>
                </a:lnTo>
                <a:cubicBezTo>
                  <a:pt x="13041" y="11496"/>
                  <a:pt x="13372" y="10800"/>
                  <a:pt x="13972" y="10800"/>
                </a:cubicBezTo>
                <a:cubicBezTo>
                  <a:pt x="15104" y="10800"/>
                  <a:pt x="16000" y="9434"/>
                  <a:pt x="16000" y="7849"/>
                </a:cubicBezTo>
                <a:cubicBezTo>
                  <a:pt x="16000" y="5534"/>
                  <a:pt x="14146" y="3794"/>
                  <a:pt x="11936" y="3794"/>
                </a:cubicBezTo>
                <a:cubicBezTo>
                  <a:pt x="9725" y="3794"/>
                  <a:pt x="8054" y="5534"/>
                  <a:pt x="8054" y="7849"/>
                </a:cubicBezTo>
                <a:lnTo>
                  <a:pt x="9908" y="7849"/>
                </a:lnTo>
                <a:cubicBezTo>
                  <a:pt x="9908" y="6709"/>
                  <a:pt x="10830" y="5821"/>
                  <a:pt x="11936" y="5821"/>
                </a:cubicBezTo>
                <a:cubicBezTo>
                  <a:pt x="13041" y="5821"/>
                  <a:pt x="13972" y="6709"/>
                  <a:pt x="13972" y="7849"/>
                </a:cubicBezTo>
                <a:cubicBezTo>
                  <a:pt x="13972" y="8589"/>
                  <a:pt x="13502" y="9320"/>
                  <a:pt x="13041" y="9320"/>
                </a:cubicBezTo>
                <a:cubicBezTo>
                  <a:pt x="11936" y="9320"/>
                  <a:pt x="10830" y="10800"/>
                  <a:pt x="10830" y="12323"/>
                </a:cubicBezTo>
                <a:lnTo>
                  <a:pt x="1083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erm describes that amount of time it takes for ½ the amount of a radioactive substance to dec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Half-lif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7238880" y="7696080"/>
            <a:ext cx="1524240" cy="1295640"/>
          </a:xfrm>
          <a:custGeom>
            <a:avLst/>
            <a:gdLst>
              <a:gd name="textAreaLeft" fmla="*/ 83880 w 1524240"/>
              <a:gd name="textAreaRight" fmla="*/ 1440360 w 15242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127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10" h="21600">
                <a:moveTo>
                  <a:pt x="13810" y="14281"/>
                </a:moveTo>
                <a:lnTo>
                  <a:pt x="13810" y="12323"/>
                </a:lnTo>
                <a:cubicBezTo>
                  <a:pt x="13810" y="11496"/>
                  <a:pt x="14141" y="10800"/>
                  <a:pt x="14742" y="10800"/>
                </a:cubicBezTo>
                <a:cubicBezTo>
                  <a:pt x="15873" y="10800"/>
                  <a:pt x="16770" y="9434"/>
                  <a:pt x="16770" y="7849"/>
                </a:cubicBezTo>
                <a:cubicBezTo>
                  <a:pt x="16770" y="5534"/>
                  <a:pt x="14916" y="3794"/>
                  <a:pt x="12705" y="3794"/>
                </a:cubicBezTo>
                <a:cubicBezTo>
                  <a:pt x="10494" y="3794"/>
                  <a:pt x="8823" y="5534"/>
                  <a:pt x="8823" y="7849"/>
                </a:cubicBezTo>
                <a:lnTo>
                  <a:pt x="10677" y="7849"/>
                </a:lnTo>
                <a:cubicBezTo>
                  <a:pt x="10677" y="6709"/>
                  <a:pt x="11600" y="5821"/>
                  <a:pt x="12705" y="5821"/>
                </a:cubicBezTo>
                <a:cubicBezTo>
                  <a:pt x="13810" y="5821"/>
                  <a:pt x="14742" y="6709"/>
                  <a:pt x="14742" y="7849"/>
                </a:cubicBezTo>
                <a:cubicBezTo>
                  <a:pt x="14742" y="8589"/>
                  <a:pt x="14272" y="9320"/>
                  <a:pt x="13810" y="9320"/>
                </a:cubicBezTo>
                <a:cubicBezTo>
                  <a:pt x="12705" y="9320"/>
                  <a:pt x="11600" y="10800"/>
                  <a:pt x="11600" y="12323"/>
                </a:cubicBezTo>
                <a:lnTo>
                  <a:pt x="1160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fraction of a sample remains after 5 half liv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1/3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7162920" y="76960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9" h="21600">
                <a:moveTo>
                  <a:pt x="14065" y="14281"/>
                </a:moveTo>
                <a:lnTo>
                  <a:pt x="14065" y="12323"/>
                </a:lnTo>
                <a:cubicBezTo>
                  <a:pt x="14065" y="11496"/>
                  <a:pt x="14395" y="10800"/>
                  <a:pt x="14996" y="10800"/>
                </a:cubicBezTo>
                <a:cubicBezTo>
                  <a:pt x="16127" y="10800"/>
                  <a:pt x="17024" y="9434"/>
                  <a:pt x="17024" y="7849"/>
                </a:cubicBezTo>
                <a:cubicBezTo>
                  <a:pt x="17024" y="5534"/>
                  <a:pt x="15170" y="3794"/>
                  <a:pt x="12959" y="3794"/>
                </a:cubicBezTo>
                <a:cubicBezTo>
                  <a:pt x="10749" y="3794"/>
                  <a:pt x="9077" y="5534"/>
                  <a:pt x="9077" y="7849"/>
                </a:cubicBezTo>
                <a:lnTo>
                  <a:pt x="10931" y="7849"/>
                </a:lnTo>
                <a:cubicBezTo>
                  <a:pt x="10931" y="6709"/>
                  <a:pt x="11854" y="5821"/>
                  <a:pt x="12959" y="5821"/>
                </a:cubicBezTo>
                <a:cubicBezTo>
                  <a:pt x="14065" y="5821"/>
                  <a:pt x="14996" y="6709"/>
                  <a:pt x="14996" y="7849"/>
                </a:cubicBezTo>
                <a:cubicBezTo>
                  <a:pt x="14996" y="8589"/>
                  <a:pt x="14526" y="9320"/>
                  <a:pt x="14065" y="9320"/>
                </a:cubicBezTo>
                <a:cubicBezTo>
                  <a:pt x="12959" y="9320"/>
                  <a:pt x="11854" y="10800"/>
                  <a:pt x="11854" y="12323"/>
                </a:cubicBezTo>
                <a:lnTo>
                  <a:pt x="1185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1321416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132145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0" algn="ctr">
              <a:lnSpc>
                <a:spcPct val="130000"/>
              </a:lnSpc>
              <a:spcBef>
                <a:spcPts val="32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Times New Roman"/>
              </a:rPr>
              <a:t>ANY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ctr">
              <a:lnSpc>
                <a:spcPct val="130000"/>
              </a:lnSpc>
              <a:spcBef>
                <a:spcPts val="32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Above what number can the transuranium elements be fou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9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7238880" y="784872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4" h="21600">
                <a:moveTo>
                  <a:pt x="122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84" h="21600">
                <a:moveTo>
                  <a:pt x="13347" y="14281"/>
                </a:moveTo>
                <a:lnTo>
                  <a:pt x="13347" y="12323"/>
                </a:lnTo>
                <a:cubicBezTo>
                  <a:pt x="13347" y="11496"/>
                  <a:pt x="13678" y="10800"/>
                  <a:pt x="14278" y="10800"/>
                </a:cubicBezTo>
                <a:cubicBezTo>
                  <a:pt x="15410" y="10800"/>
                  <a:pt x="16306" y="9434"/>
                  <a:pt x="16306" y="7849"/>
                </a:cubicBezTo>
                <a:cubicBezTo>
                  <a:pt x="16306" y="5534"/>
                  <a:pt x="14453" y="3794"/>
                  <a:pt x="12242" y="3794"/>
                </a:cubicBezTo>
                <a:cubicBezTo>
                  <a:pt x="10031" y="3794"/>
                  <a:pt x="8360" y="5534"/>
                  <a:pt x="8360" y="7849"/>
                </a:cubicBezTo>
                <a:lnTo>
                  <a:pt x="10214" y="7849"/>
                </a:lnTo>
                <a:cubicBezTo>
                  <a:pt x="10214" y="6709"/>
                  <a:pt x="11136" y="5821"/>
                  <a:pt x="12242" y="5821"/>
                </a:cubicBezTo>
                <a:cubicBezTo>
                  <a:pt x="13347" y="5821"/>
                  <a:pt x="14278" y="6709"/>
                  <a:pt x="14278" y="7849"/>
                </a:cubicBezTo>
                <a:cubicBezTo>
                  <a:pt x="14278" y="8589"/>
                  <a:pt x="13808" y="9320"/>
                  <a:pt x="13347" y="9320"/>
                </a:cubicBezTo>
                <a:cubicBezTo>
                  <a:pt x="12242" y="9320"/>
                  <a:pt x="11136" y="10800"/>
                  <a:pt x="11136" y="12323"/>
                </a:cubicBezTo>
                <a:lnTo>
                  <a:pt x="1113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charge is associated with an anod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ositiv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6934320" y="77724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1367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354" h="21600">
                <a:moveTo>
                  <a:pt x="14782" y="14281"/>
                </a:moveTo>
                <a:lnTo>
                  <a:pt x="14782" y="12323"/>
                </a:lnTo>
                <a:cubicBezTo>
                  <a:pt x="14782" y="11496"/>
                  <a:pt x="15113" y="10800"/>
                  <a:pt x="15713" y="10800"/>
                </a:cubicBezTo>
                <a:cubicBezTo>
                  <a:pt x="16845" y="10800"/>
                  <a:pt x="17741" y="9434"/>
                  <a:pt x="17741" y="7849"/>
                </a:cubicBezTo>
                <a:cubicBezTo>
                  <a:pt x="17741" y="5534"/>
                  <a:pt x="15888" y="3794"/>
                  <a:pt x="13677" y="3794"/>
                </a:cubicBezTo>
                <a:cubicBezTo>
                  <a:pt x="11466" y="3794"/>
                  <a:pt x="9795" y="5534"/>
                  <a:pt x="9795" y="7849"/>
                </a:cubicBezTo>
                <a:lnTo>
                  <a:pt x="11649" y="7849"/>
                </a:lnTo>
                <a:cubicBezTo>
                  <a:pt x="11649" y="6709"/>
                  <a:pt x="12571" y="5821"/>
                  <a:pt x="13677" y="5821"/>
                </a:cubicBezTo>
                <a:cubicBezTo>
                  <a:pt x="14782" y="5821"/>
                  <a:pt x="15713" y="6709"/>
                  <a:pt x="15713" y="7849"/>
                </a:cubicBezTo>
                <a:cubicBezTo>
                  <a:pt x="15713" y="8589"/>
                  <a:pt x="15243" y="9320"/>
                  <a:pt x="14782" y="9320"/>
                </a:cubicBezTo>
                <a:cubicBezTo>
                  <a:pt x="13677" y="9320"/>
                  <a:pt x="12571" y="10800"/>
                  <a:pt x="12571" y="12323"/>
                </a:cubicBezTo>
                <a:lnTo>
                  <a:pt x="1257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Elements are composed of what tiny indivisible particl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tom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7086600" y="7620120"/>
            <a:ext cx="1295280" cy="12952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decay particle has the greatest penetrating pow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gamm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6705720" y="73152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82" h="21600">
                <a:moveTo>
                  <a:pt x="113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682" h="21600">
                <a:moveTo>
                  <a:pt x="12446" y="14281"/>
                </a:moveTo>
                <a:lnTo>
                  <a:pt x="12446" y="12323"/>
                </a:lnTo>
                <a:cubicBezTo>
                  <a:pt x="12446" y="11496"/>
                  <a:pt x="12777" y="10800"/>
                  <a:pt x="13377" y="10800"/>
                </a:cubicBezTo>
                <a:cubicBezTo>
                  <a:pt x="14509" y="10800"/>
                  <a:pt x="15405" y="9434"/>
                  <a:pt x="15405" y="7849"/>
                </a:cubicBezTo>
                <a:cubicBezTo>
                  <a:pt x="15405" y="5534"/>
                  <a:pt x="13552" y="3794"/>
                  <a:pt x="11341" y="3794"/>
                </a:cubicBezTo>
                <a:cubicBezTo>
                  <a:pt x="9130" y="3794"/>
                  <a:pt x="7459" y="5534"/>
                  <a:pt x="7459" y="7849"/>
                </a:cubicBezTo>
                <a:lnTo>
                  <a:pt x="9313" y="7849"/>
                </a:lnTo>
                <a:cubicBezTo>
                  <a:pt x="9313" y="6709"/>
                  <a:pt x="10235" y="5821"/>
                  <a:pt x="11341" y="5821"/>
                </a:cubicBezTo>
                <a:cubicBezTo>
                  <a:pt x="12446" y="5821"/>
                  <a:pt x="13377" y="6709"/>
                  <a:pt x="13377" y="7849"/>
                </a:cubicBezTo>
                <a:cubicBezTo>
                  <a:pt x="13377" y="8589"/>
                  <a:pt x="12907" y="9320"/>
                  <a:pt x="12446" y="9320"/>
                </a:cubicBezTo>
                <a:cubicBezTo>
                  <a:pt x="11341" y="9320"/>
                  <a:pt x="10235" y="10800"/>
                  <a:pt x="10235" y="12323"/>
                </a:cubicBezTo>
                <a:lnTo>
                  <a:pt x="1023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particles were emitted from Rutherford’s apparatu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lpha particl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238880" y="7696080"/>
            <a:ext cx="1524240" cy="1447920"/>
          </a:xfrm>
          <a:custGeom>
            <a:avLst/>
            <a:gdLst>
              <a:gd name="textAreaLeft" fmla="*/ 93600 w 1524240"/>
              <a:gd name="textAreaRight" fmla="*/ 1430640 w 15242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2738" h="21600">
                <a:moveTo>
                  <a:pt x="0" y="0"/>
                </a:moveTo>
                <a:lnTo>
                  <a:pt x="22738" y="0"/>
                </a:lnTo>
                <a:lnTo>
                  <a:pt x="22738" y="21600"/>
                </a:lnTo>
                <a:lnTo>
                  <a:pt x="0" y="21600"/>
                </a:lnTo>
                <a:close/>
              </a:path>
              <a:path fill="lightenLess" w="22738" h="21600">
                <a:moveTo>
                  <a:pt x="0" y="0"/>
                </a:moveTo>
                <a:lnTo>
                  <a:pt x="22738" y="0"/>
                </a:lnTo>
                <a:lnTo>
                  <a:pt x="21338" y="1400"/>
                </a:lnTo>
                <a:lnTo>
                  <a:pt x="1400" y="1400"/>
                </a:lnTo>
                <a:close/>
              </a:path>
              <a:path fill="darken" w="22738" h="21600">
                <a:moveTo>
                  <a:pt x="22738" y="0"/>
                </a:moveTo>
                <a:lnTo>
                  <a:pt x="22738" y="21600"/>
                </a:lnTo>
                <a:lnTo>
                  <a:pt x="21338" y="20200"/>
                </a:lnTo>
                <a:lnTo>
                  <a:pt x="21338" y="1400"/>
                </a:lnTo>
                <a:close/>
              </a:path>
              <a:path fill="darkenLess" w="22738" h="21600">
                <a:moveTo>
                  <a:pt x="22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8" y="20200"/>
                </a:lnTo>
                <a:close/>
              </a:path>
              <a:path fill="lighten" w="22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8" h="21600">
                <a:moveTo>
                  <a:pt x="113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8" h="21600">
                <a:moveTo>
                  <a:pt x="12474" y="14281"/>
                </a:moveTo>
                <a:lnTo>
                  <a:pt x="12474" y="12323"/>
                </a:lnTo>
                <a:cubicBezTo>
                  <a:pt x="12474" y="11496"/>
                  <a:pt x="12805" y="10800"/>
                  <a:pt x="13406" y="10800"/>
                </a:cubicBezTo>
                <a:cubicBezTo>
                  <a:pt x="14537" y="10800"/>
                  <a:pt x="15434" y="9434"/>
                  <a:pt x="15434" y="7849"/>
                </a:cubicBezTo>
                <a:cubicBezTo>
                  <a:pt x="15434" y="5534"/>
                  <a:pt x="13580" y="3794"/>
                  <a:pt x="11369" y="3794"/>
                </a:cubicBezTo>
                <a:cubicBezTo>
                  <a:pt x="9158" y="3794"/>
                  <a:pt x="7487" y="5534"/>
                  <a:pt x="7487" y="7849"/>
                </a:cubicBezTo>
                <a:lnTo>
                  <a:pt x="9341" y="7849"/>
                </a:lnTo>
                <a:cubicBezTo>
                  <a:pt x="9341" y="6709"/>
                  <a:pt x="10264" y="5821"/>
                  <a:pt x="11369" y="5821"/>
                </a:cubicBezTo>
                <a:cubicBezTo>
                  <a:pt x="12474" y="5821"/>
                  <a:pt x="13406" y="6709"/>
                  <a:pt x="13406" y="7849"/>
                </a:cubicBezTo>
                <a:cubicBezTo>
                  <a:pt x="13406" y="8589"/>
                  <a:pt x="12936" y="9320"/>
                  <a:pt x="12474" y="9320"/>
                </a:cubicBezTo>
                <a:cubicBezTo>
                  <a:pt x="11369" y="9320"/>
                  <a:pt x="10264" y="10800"/>
                  <a:pt x="10264" y="12323"/>
                </a:cubicBezTo>
                <a:lnTo>
                  <a:pt x="1026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n what direction do electrons flow in a Cathode Ray Tub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rom cathode to anod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6781680" y="7848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82296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670572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5812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32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52578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9810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78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0302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438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8964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258800" y="22860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258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8964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3452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4114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972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58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3452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820520" y="70102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2588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8964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2588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13400" y="966168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572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omic Scien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4572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457200"/>
            <a:ext cx="22860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omic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29600" y="533520"/>
            <a:ext cx="2438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ot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820520" y="457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odic  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877920" y="533520"/>
            <a:ext cx="26668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Times New Roman"/>
              </a:rPr>
              <a:t>The mouse has led you astray, please pick again!!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70866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oh(1)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4638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was the name given to JJ Thomson’s atomic mode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lum Pudd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6934320" y="8077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According to John Dalton, Which atoms are identica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toms of the same ele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6477120" y="8077320"/>
            <a:ext cx="2819160" cy="1981080"/>
          </a:xfrm>
          <a:custGeom>
            <a:avLst/>
            <a:gdLst>
              <a:gd name="textAreaLeft" fmla="*/ 128160 w 2819160"/>
              <a:gd name="textAreaRight" fmla="*/ 2691000 w 281916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0736" h="21600">
                <a:moveTo>
                  <a:pt x="0" y="0"/>
                </a:moveTo>
                <a:lnTo>
                  <a:pt x="30736" y="0"/>
                </a:lnTo>
                <a:lnTo>
                  <a:pt x="30736" y="21600"/>
                </a:lnTo>
                <a:lnTo>
                  <a:pt x="0" y="21600"/>
                </a:lnTo>
                <a:close/>
              </a:path>
              <a:path fill="lightenLess" w="30736" h="21600">
                <a:moveTo>
                  <a:pt x="0" y="0"/>
                </a:moveTo>
                <a:lnTo>
                  <a:pt x="30736" y="0"/>
                </a:lnTo>
                <a:lnTo>
                  <a:pt x="29336" y="1400"/>
                </a:lnTo>
                <a:lnTo>
                  <a:pt x="1400" y="1400"/>
                </a:lnTo>
                <a:close/>
              </a:path>
              <a:path fill="darken" w="30736" h="21600">
                <a:moveTo>
                  <a:pt x="30736" y="0"/>
                </a:moveTo>
                <a:lnTo>
                  <a:pt x="30736" y="21600"/>
                </a:lnTo>
                <a:lnTo>
                  <a:pt x="29336" y="20200"/>
                </a:lnTo>
                <a:lnTo>
                  <a:pt x="29336" y="1400"/>
                </a:lnTo>
                <a:close/>
              </a:path>
              <a:path fill="darkenLess" w="30736" h="21600">
                <a:moveTo>
                  <a:pt x="30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6" y="20200"/>
                </a:lnTo>
                <a:close/>
              </a:path>
              <a:path fill="lighten" w="30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6" h="21600">
                <a:moveTo>
                  <a:pt x="153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736" h="21600">
                <a:moveTo>
                  <a:pt x="16473" y="14281"/>
                </a:moveTo>
                <a:lnTo>
                  <a:pt x="16473" y="12323"/>
                </a:lnTo>
                <a:cubicBezTo>
                  <a:pt x="16473" y="11496"/>
                  <a:pt x="16804" y="10800"/>
                  <a:pt x="17405" y="10800"/>
                </a:cubicBezTo>
                <a:cubicBezTo>
                  <a:pt x="18536" y="10800"/>
                  <a:pt x="19433" y="9434"/>
                  <a:pt x="19433" y="7849"/>
                </a:cubicBezTo>
                <a:cubicBezTo>
                  <a:pt x="19433" y="5534"/>
                  <a:pt x="17579" y="3794"/>
                  <a:pt x="15368" y="3794"/>
                </a:cubicBezTo>
                <a:cubicBezTo>
                  <a:pt x="13157" y="3794"/>
                  <a:pt x="11486" y="5534"/>
                  <a:pt x="11486" y="7849"/>
                </a:cubicBezTo>
                <a:lnTo>
                  <a:pt x="13340" y="7849"/>
                </a:lnTo>
                <a:cubicBezTo>
                  <a:pt x="13340" y="6709"/>
                  <a:pt x="14263" y="5821"/>
                  <a:pt x="15368" y="5821"/>
                </a:cubicBezTo>
                <a:cubicBezTo>
                  <a:pt x="16473" y="5821"/>
                  <a:pt x="17405" y="6709"/>
                  <a:pt x="17405" y="7849"/>
                </a:cubicBezTo>
                <a:cubicBezTo>
                  <a:pt x="17405" y="8589"/>
                  <a:pt x="16935" y="9320"/>
                  <a:pt x="16473" y="9320"/>
                </a:cubicBezTo>
                <a:cubicBezTo>
                  <a:pt x="15368" y="9320"/>
                  <a:pt x="14263" y="10800"/>
                  <a:pt x="14263" y="12323"/>
                </a:cubicBezTo>
                <a:lnTo>
                  <a:pt x="1426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82296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70572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812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09480"/>
            <a:ext cx="266724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omic Scien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57200"/>
            <a:ext cx="22860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omic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9600" y="533520"/>
            <a:ext cx="2438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ot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77920" y="533520"/>
            <a:ext cx="26668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.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2578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9810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78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0302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438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18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8964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258800" y="22860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258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964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3452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4114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582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972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258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3452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20520" y="70102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2588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964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2588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896480" y="5335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sc.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87720" y="976788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uble Jeopar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4572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oardfi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first proposed that all matter consisted of atom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Democrit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6858000" y="8001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was responsible for describing the nuclear model of particles in the ato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rnest Rutherfor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atomic theorist developed the concept of the atom without experiment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Democrit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6553080" y="777240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19" h="21600">
                <a:moveTo>
                  <a:pt x="142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19" h="21600">
                <a:moveTo>
                  <a:pt x="15315" y="14281"/>
                </a:moveTo>
                <a:lnTo>
                  <a:pt x="15315" y="12323"/>
                </a:lnTo>
                <a:cubicBezTo>
                  <a:pt x="15315" y="11496"/>
                  <a:pt x="15646" y="10800"/>
                  <a:pt x="16246" y="10800"/>
                </a:cubicBezTo>
                <a:cubicBezTo>
                  <a:pt x="17378" y="10800"/>
                  <a:pt x="18274" y="9434"/>
                  <a:pt x="18274" y="7849"/>
                </a:cubicBezTo>
                <a:cubicBezTo>
                  <a:pt x="18274" y="5534"/>
                  <a:pt x="16420" y="3794"/>
                  <a:pt x="14209" y="3794"/>
                </a:cubicBezTo>
                <a:cubicBezTo>
                  <a:pt x="11999" y="3794"/>
                  <a:pt x="10328" y="5534"/>
                  <a:pt x="10328" y="7849"/>
                </a:cubicBezTo>
                <a:lnTo>
                  <a:pt x="12181" y="7849"/>
                </a:lnTo>
                <a:cubicBezTo>
                  <a:pt x="12181" y="6709"/>
                  <a:pt x="13104" y="5821"/>
                  <a:pt x="14209" y="5821"/>
                </a:cubicBezTo>
                <a:cubicBezTo>
                  <a:pt x="15315" y="5821"/>
                  <a:pt x="16246" y="6709"/>
                  <a:pt x="16246" y="7849"/>
                </a:cubicBezTo>
                <a:cubicBezTo>
                  <a:pt x="16246" y="8589"/>
                  <a:pt x="15776" y="9320"/>
                  <a:pt x="15315" y="9320"/>
                </a:cubicBezTo>
                <a:cubicBezTo>
                  <a:pt x="14209" y="9320"/>
                  <a:pt x="13104" y="10800"/>
                  <a:pt x="13104" y="12323"/>
                </a:cubicBezTo>
                <a:lnTo>
                  <a:pt x="1310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n terms of charge, how would you compare a proton and an elect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qual and opposi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7086600" y="71629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relative mass of an elect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1/184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877920" y="533520"/>
            <a:ext cx="26668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would occur if two electrons were brought together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y would repel one anoth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6781680" y="7315200"/>
            <a:ext cx="1752840" cy="1676520"/>
          </a:xfrm>
          <a:custGeom>
            <a:avLst/>
            <a:gdLst>
              <a:gd name="textAreaLeft" fmla="*/ 108360 w 1752840"/>
              <a:gd name="textAreaRight" fmla="*/ 1644480 w 17528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2583" h="21600">
                <a:moveTo>
                  <a:pt x="0" y="0"/>
                </a:moveTo>
                <a:lnTo>
                  <a:pt x="22583" y="0"/>
                </a:lnTo>
                <a:lnTo>
                  <a:pt x="22583" y="21600"/>
                </a:lnTo>
                <a:lnTo>
                  <a:pt x="0" y="21600"/>
                </a:lnTo>
                <a:close/>
              </a:path>
              <a:path fill="lightenLess" w="22583" h="21600">
                <a:moveTo>
                  <a:pt x="0" y="0"/>
                </a:moveTo>
                <a:lnTo>
                  <a:pt x="22583" y="0"/>
                </a:lnTo>
                <a:lnTo>
                  <a:pt x="21183" y="1400"/>
                </a:lnTo>
                <a:lnTo>
                  <a:pt x="1400" y="1400"/>
                </a:lnTo>
                <a:close/>
              </a:path>
              <a:path fill="darken" w="22583" h="21600">
                <a:moveTo>
                  <a:pt x="22583" y="0"/>
                </a:moveTo>
                <a:lnTo>
                  <a:pt x="22583" y="21600"/>
                </a:lnTo>
                <a:lnTo>
                  <a:pt x="21183" y="20200"/>
                </a:lnTo>
                <a:lnTo>
                  <a:pt x="21183" y="1400"/>
                </a:lnTo>
                <a:close/>
              </a:path>
              <a:path fill="darkenLess" w="22583" h="21600">
                <a:moveTo>
                  <a:pt x="22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" y="20200"/>
                </a:lnTo>
                <a:close/>
              </a:path>
              <a:path fill="lighten" w="22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3" h="21600">
                <a:moveTo>
                  <a:pt x="112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583" h="21600">
                <a:moveTo>
                  <a:pt x="12397" y="14281"/>
                </a:moveTo>
                <a:lnTo>
                  <a:pt x="12397" y="12323"/>
                </a:lnTo>
                <a:cubicBezTo>
                  <a:pt x="12397" y="11496"/>
                  <a:pt x="12728" y="10800"/>
                  <a:pt x="13328" y="10800"/>
                </a:cubicBezTo>
                <a:cubicBezTo>
                  <a:pt x="14460" y="10800"/>
                  <a:pt x="15356" y="9434"/>
                  <a:pt x="15356" y="7849"/>
                </a:cubicBezTo>
                <a:cubicBezTo>
                  <a:pt x="15356" y="5534"/>
                  <a:pt x="13502" y="3794"/>
                  <a:pt x="11292" y="3794"/>
                </a:cubicBezTo>
                <a:cubicBezTo>
                  <a:pt x="9081" y="3794"/>
                  <a:pt x="7410" y="5534"/>
                  <a:pt x="7410" y="7849"/>
                </a:cubicBezTo>
                <a:lnTo>
                  <a:pt x="9264" y="7849"/>
                </a:lnTo>
                <a:cubicBezTo>
                  <a:pt x="9264" y="6709"/>
                  <a:pt x="10186" y="5821"/>
                  <a:pt x="11292" y="5821"/>
                </a:cubicBezTo>
                <a:cubicBezTo>
                  <a:pt x="12397" y="5821"/>
                  <a:pt x="13328" y="6709"/>
                  <a:pt x="13328" y="7849"/>
                </a:cubicBezTo>
                <a:cubicBezTo>
                  <a:pt x="13328" y="8589"/>
                  <a:pt x="12858" y="9320"/>
                  <a:pt x="12397" y="9320"/>
                </a:cubicBezTo>
                <a:cubicBezTo>
                  <a:pt x="11292" y="9320"/>
                  <a:pt x="10186" y="10800"/>
                  <a:pt x="10186" y="12323"/>
                </a:cubicBezTo>
                <a:lnTo>
                  <a:pt x="1018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does a change in the number of electrons in an atom give rise to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7315200" y="73152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particle, proton or electron, is attracted to the cathode of a CR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rot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6629400" y="7391520"/>
            <a:ext cx="1600200" cy="167616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76160"/>
              <a:gd name="textAreaBottom" fmla="*/ 1572480 h 1676160"/>
            </a:gdLst>
            <a:ahLst/>
            <a:rect l="textAreaLeft" t="textAreaTop" r="textAreaRight" b="textAreaBottom"/>
            <a:pathLst>
              <a:path w="21600" h="22625">
                <a:moveTo>
                  <a:pt x="0" y="0"/>
                </a:moveTo>
                <a:lnTo>
                  <a:pt x="21600" y="0"/>
                </a:lnTo>
                <a:lnTo>
                  <a:pt x="21600" y="22625"/>
                </a:lnTo>
                <a:lnTo>
                  <a:pt x="0" y="22625"/>
                </a:lnTo>
                <a:close/>
              </a:path>
              <a:path fill="lightenLess" w="21600" h="22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5">
                <a:moveTo>
                  <a:pt x="21600" y="0"/>
                </a:moveTo>
                <a:lnTo>
                  <a:pt x="21600" y="22625"/>
                </a:lnTo>
                <a:lnTo>
                  <a:pt x="20200" y="21225"/>
                </a:lnTo>
                <a:lnTo>
                  <a:pt x="20200" y="1400"/>
                </a:lnTo>
                <a:close/>
              </a:path>
              <a:path fill="darkenLess" w="21600" h="22625">
                <a:moveTo>
                  <a:pt x="21600" y="22625"/>
                </a:moveTo>
                <a:lnTo>
                  <a:pt x="0" y="22625"/>
                </a:lnTo>
                <a:lnTo>
                  <a:pt x="1400" y="21225"/>
                </a:lnTo>
                <a:lnTo>
                  <a:pt x="20200" y="21225"/>
                </a:lnTo>
                <a:close/>
              </a:path>
              <a:path fill="lighten" w="21600" h="22625">
                <a:moveTo>
                  <a:pt x="0" y="22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5"/>
                </a:lnTo>
                <a:close/>
              </a:path>
              <a:path fill="darken" w="21600" h="22625">
                <a:moveTo>
                  <a:pt x="10800" y="1531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25">
                <a:moveTo>
                  <a:pt x="11905" y="14794"/>
                </a:moveTo>
                <a:lnTo>
                  <a:pt x="11905" y="12836"/>
                </a:lnTo>
                <a:cubicBezTo>
                  <a:pt x="11905" y="12009"/>
                  <a:pt x="12236" y="11313"/>
                  <a:pt x="12837" y="11313"/>
                </a:cubicBezTo>
                <a:cubicBezTo>
                  <a:pt x="13968" y="11313"/>
                  <a:pt x="14865" y="9946"/>
                  <a:pt x="14865" y="8362"/>
                </a:cubicBezTo>
                <a:cubicBezTo>
                  <a:pt x="14865" y="6047"/>
                  <a:pt x="13011" y="4306"/>
                  <a:pt x="10800" y="4306"/>
                </a:cubicBezTo>
                <a:cubicBezTo>
                  <a:pt x="8589" y="4306"/>
                  <a:pt x="6918" y="6047"/>
                  <a:pt x="6918" y="8362"/>
                </a:cubicBezTo>
                <a:lnTo>
                  <a:pt x="8772" y="8362"/>
                </a:lnTo>
                <a:cubicBezTo>
                  <a:pt x="8772" y="7222"/>
                  <a:pt x="9695" y="6334"/>
                  <a:pt x="10800" y="6334"/>
                </a:cubicBezTo>
                <a:cubicBezTo>
                  <a:pt x="11905" y="6334"/>
                  <a:pt x="12837" y="7222"/>
                  <a:pt x="12837" y="8362"/>
                </a:cubicBezTo>
                <a:cubicBezTo>
                  <a:pt x="12837" y="9102"/>
                  <a:pt x="12367" y="9833"/>
                  <a:pt x="11905" y="9833"/>
                </a:cubicBezTo>
                <a:cubicBezTo>
                  <a:pt x="10800" y="9833"/>
                  <a:pt x="9695" y="11313"/>
                  <a:pt x="9695" y="12836"/>
                </a:cubicBezTo>
                <a:lnTo>
                  <a:pt x="9695" y="1479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From what is atomic mass deriv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weighted average mass of all atoms that naturally occur in a sam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7086600" y="73915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many neutrons are in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0">
              <a:spcBef>
                <a:spcPts val="165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Cl-35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1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6934320" y="7238880"/>
            <a:ext cx="1676160" cy="1447920"/>
          </a:xfrm>
          <a:custGeom>
            <a:avLst/>
            <a:gdLst>
              <a:gd name="textAreaLeft" fmla="*/ 93600 w 1676160"/>
              <a:gd name="textAreaRight" fmla="*/ 1582560 w 16761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4" h="21600">
                <a:moveTo>
                  <a:pt x="0" y="0"/>
                </a:moveTo>
                <a:lnTo>
                  <a:pt x="25004" y="0"/>
                </a:lnTo>
                <a:lnTo>
                  <a:pt x="25004" y="21600"/>
                </a:lnTo>
                <a:lnTo>
                  <a:pt x="0" y="21600"/>
                </a:lnTo>
                <a:close/>
              </a:path>
              <a:path fill="lightenLess" w="25004" h="21600">
                <a:moveTo>
                  <a:pt x="0" y="0"/>
                </a:moveTo>
                <a:lnTo>
                  <a:pt x="25004" y="0"/>
                </a:lnTo>
                <a:lnTo>
                  <a:pt x="23604" y="1400"/>
                </a:lnTo>
                <a:lnTo>
                  <a:pt x="1400" y="1400"/>
                </a:lnTo>
                <a:close/>
              </a:path>
              <a:path fill="darken" w="25004" h="21600">
                <a:moveTo>
                  <a:pt x="25004" y="0"/>
                </a:moveTo>
                <a:lnTo>
                  <a:pt x="25004" y="21600"/>
                </a:lnTo>
                <a:lnTo>
                  <a:pt x="23604" y="20200"/>
                </a:lnTo>
                <a:lnTo>
                  <a:pt x="23604" y="1400"/>
                </a:lnTo>
                <a:close/>
              </a:path>
              <a:path fill="darkenLess" w="25004" h="21600">
                <a:moveTo>
                  <a:pt x="25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4" y="20200"/>
                </a:lnTo>
                <a:close/>
              </a:path>
              <a:path fill="lighten" w="25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4" h="21600">
                <a:moveTo>
                  <a:pt x="1250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04" h="21600">
                <a:moveTo>
                  <a:pt x="13607" y="14281"/>
                </a:moveTo>
                <a:lnTo>
                  <a:pt x="13607" y="12323"/>
                </a:lnTo>
                <a:cubicBezTo>
                  <a:pt x="13607" y="11496"/>
                  <a:pt x="13938" y="10800"/>
                  <a:pt x="14539" y="10800"/>
                </a:cubicBezTo>
                <a:cubicBezTo>
                  <a:pt x="15670" y="10800"/>
                  <a:pt x="16567" y="9434"/>
                  <a:pt x="16567" y="7849"/>
                </a:cubicBezTo>
                <a:cubicBezTo>
                  <a:pt x="16567" y="5534"/>
                  <a:pt x="14713" y="3794"/>
                  <a:pt x="12502" y="3794"/>
                </a:cubicBezTo>
                <a:cubicBezTo>
                  <a:pt x="10291" y="3794"/>
                  <a:pt x="8620" y="5534"/>
                  <a:pt x="8620" y="7849"/>
                </a:cubicBezTo>
                <a:lnTo>
                  <a:pt x="10474" y="7849"/>
                </a:lnTo>
                <a:cubicBezTo>
                  <a:pt x="10474" y="6709"/>
                  <a:pt x="11397" y="5821"/>
                  <a:pt x="12502" y="5821"/>
                </a:cubicBezTo>
                <a:cubicBezTo>
                  <a:pt x="13607" y="5821"/>
                  <a:pt x="14539" y="6709"/>
                  <a:pt x="14539" y="7849"/>
                </a:cubicBezTo>
                <a:cubicBezTo>
                  <a:pt x="14539" y="8589"/>
                  <a:pt x="14069" y="9320"/>
                  <a:pt x="13607" y="9320"/>
                </a:cubicBezTo>
                <a:cubicBezTo>
                  <a:pt x="12502" y="9320"/>
                  <a:pt x="11397" y="10800"/>
                  <a:pt x="11397" y="12323"/>
                </a:cubicBezTo>
                <a:lnTo>
                  <a:pt x="1139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Times New Roman"/>
              </a:rPr>
              <a:t>The mouse has led you astray, please pick again!!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70866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oh(1)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atomic number of the atom that has a mass number or 15 and 8 neutr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7238880" y="7162920"/>
            <a:ext cx="1524240" cy="1523880"/>
          </a:xfrm>
          <a:custGeom>
            <a:avLst/>
            <a:gdLst>
              <a:gd name="textAreaLeft" fmla="*/ 98640 w 1524240"/>
              <a:gd name="textAreaRight" fmla="*/ 1425600 w 152424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5" h="21600">
                <a:moveTo>
                  <a:pt x="108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5" h="21600">
                <a:moveTo>
                  <a:pt x="11908" y="14281"/>
                </a:moveTo>
                <a:lnTo>
                  <a:pt x="11908" y="12323"/>
                </a:lnTo>
                <a:cubicBezTo>
                  <a:pt x="11908" y="11496"/>
                  <a:pt x="12239" y="10800"/>
                  <a:pt x="12839" y="10800"/>
                </a:cubicBezTo>
                <a:cubicBezTo>
                  <a:pt x="13971" y="10800"/>
                  <a:pt x="14867" y="9434"/>
                  <a:pt x="14867" y="7849"/>
                </a:cubicBezTo>
                <a:cubicBezTo>
                  <a:pt x="14867" y="5534"/>
                  <a:pt x="13013" y="3794"/>
                  <a:pt x="10803" y="3794"/>
                </a:cubicBezTo>
                <a:cubicBezTo>
                  <a:pt x="8592" y="3794"/>
                  <a:pt x="6921" y="5534"/>
                  <a:pt x="6921" y="7849"/>
                </a:cubicBezTo>
                <a:lnTo>
                  <a:pt x="8775" y="7849"/>
                </a:lnTo>
                <a:cubicBezTo>
                  <a:pt x="8775" y="6709"/>
                  <a:pt x="9697" y="5821"/>
                  <a:pt x="10803" y="5821"/>
                </a:cubicBezTo>
                <a:cubicBezTo>
                  <a:pt x="11908" y="5821"/>
                  <a:pt x="12839" y="6709"/>
                  <a:pt x="12839" y="7849"/>
                </a:cubicBezTo>
                <a:cubicBezTo>
                  <a:pt x="12839" y="8589"/>
                  <a:pt x="12369" y="9320"/>
                  <a:pt x="11908" y="9320"/>
                </a:cubicBezTo>
                <a:cubicBezTo>
                  <a:pt x="10803" y="9320"/>
                  <a:pt x="9697" y="10800"/>
                  <a:pt x="9697" y="12323"/>
                </a:cubicBezTo>
                <a:lnTo>
                  <a:pt x="969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many electrons are there in a calcium 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A  1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7162920" y="6781680"/>
            <a:ext cx="1676160" cy="1371600"/>
          </a:xfrm>
          <a:custGeom>
            <a:avLst/>
            <a:gdLst>
              <a:gd name="textAreaLeft" fmla="*/ 88920 w 1676160"/>
              <a:gd name="textAreaRight" fmla="*/ 1587240 w 16761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5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5" h="21600">
                <a:moveTo>
                  <a:pt x="14303" y="14281"/>
                </a:moveTo>
                <a:lnTo>
                  <a:pt x="14303" y="12323"/>
                </a:lnTo>
                <a:cubicBezTo>
                  <a:pt x="14303" y="11496"/>
                  <a:pt x="14634" y="10800"/>
                  <a:pt x="15234" y="10800"/>
                </a:cubicBezTo>
                <a:cubicBezTo>
                  <a:pt x="16366" y="10800"/>
                  <a:pt x="17262" y="9434"/>
                  <a:pt x="17262" y="7849"/>
                </a:cubicBezTo>
                <a:cubicBezTo>
                  <a:pt x="17262" y="5534"/>
                  <a:pt x="15408" y="3794"/>
                  <a:pt x="13197" y="3794"/>
                </a:cubicBezTo>
                <a:cubicBezTo>
                  <a:pt x="10987" y="3794"/>
                  <a:pt x="9316" y="5534"/>
                  <a:pt x="9316" y="7849"/>
                </a:cubicBezTo>
                <a:lnTo>
                  <a:pt x="11170" y="7849"/>
                </a:lnTo>
                <a:cubicBezTo>
                  <a:pt x="11170" y="6709"/>
                  <a:pt x="12092" y="5821"/>
                  <a:pt x="13197" y="5821"/>
                </a:cubicBezTo>
                <a:cubicBezTo>
                  <a:pt x="14303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3" y="9320"/>
                </a:cubicBezTo>
                <a:cubicBezTo>
                  <a:pt x="13197" y="9320"/>
                  <a:pt x="12092" y="10800"/>
                  <a:pt x="12092" y="12323"/>
                </a:cubicBezTo>
                <a:lnTo>
                  <a:pt x="12092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at type of energy determines whether a fission or fusion reaction takes place</a:t>
            </a:r>
            <a:r>
              <a:rPr b="0" i="1" lang="en-US" sz="7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Binding energ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7162920" y="754380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148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5">
                <a:moveTo>
                  <a:pt x="11905" y="14284"/>
                </a:moveTo>
                <a:lnTo>
                  <a:pt x="11905" y="12326"/>
                </a:lnTo>
                <a:cubicBezTo>
                  <a:pt x="11905" y="11499"/>
                  <a:pt x="12236" y="10803"/>
                  <a:pt x="12837" y="10803"/>
                </a:cubicBezTo>
                <a:cubicBezTo>
                  <a:pt x="13968" y="10803"/>
                  <a:pt x="14865" y="9436"/>
                  <a:pt x="14865" y="7852"/>
                </a:cubicBezTo>
                <a:cubicBezTo>
                  <a:pt x="14865" y="5537"/>
                  <a:pt x="13011" y="3796"/>
                  <a:pt x="10800" y="3796"/>
                </a:cubicBezTo>
                <a:cubicBezTo>
                  <a:pt x="8589" y="3796"/>
                  <a:pt x="6918" y="5537"/>
                  <a:pt x="6918" y="7852"/>
                </a:cubicBezTo>
                <a:lnTo>
                  <a:pt x="8772" y="7852"/>
                </a:lnTo>
                <a:cubicBezTo>
                  <a:pt x="8772" y="6712"/>
                  <a:pt x="9695" y="5824"/>
                  <a:pt x="10800" y="5824"/>
                </a:cubicBezTo>
                <a:cubicBezTo>
                  <a:pt x="11905" y="5824"/>
                  <a:pt x="12837" y="6712"/>
                  <a:pt x="12837" y="7852"/>
                </a:cubicBezTo>
                <a:cubicBezTo>
                  <a:pt x="12837" y="8592"/>
                  <a:pt x="12367" y="9323"/>
                  <a:pt x="11905" y="9323"/>
                </a:cubicBezTo>
                <a:cubicBezTo>
                  <a:pt x="10800" y="9323"/>
                  <a:pt x="9695" y="10803"/>
                  <a:pt x="9695" y="12326"/>
                </a:cubicBezTo>
                <a:lnTo>
                  <a:pt x="9695" y="1428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otope is used to determine the age of carbon based material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-1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7010280" y="7162920"/>
            <a:ext cx="1524240" cy="121896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7008" h="21600">
                <a:moveTo>
                  <a:pt x="0" y="0"/>
                </a:moveTo>
                <a:lnTo>
                  <a:pt x="27008" y="0"/>
                </a:lnTo>
                <a:lnTo>
                  <a:pt x="27008" y="21600"/>
                </a:lnTo>
                <a:lnTo>
                  <a:pt x="0" y="21600"/>
                </a:lnTo>
                <a:close/>
              </a:path>
              <a:path fill="lightenLess" w="27008" h="21600">
                <a:moveTo>
                  <a:pt x="0" y="0"/>
                </a:moveTo>
                <a:lnTo>
                  <a:pt x="27008" y="0"/>
                </a:lnTo>
                <a:lnTo>
                  <a:pt x="25608" y="1400"/>
                </a:lnTo>
                <a:lnTo>
                  <a:pt x="1400" y="1400"/>
                </a:lnTo>
                <a:close/>
              </a:path>
              <a:path fill="darken" w="27008" h="21600">
                <a:moveTo>
                  <a:pt x="27008" y="0"/>
                </a:moveTo>
                <a:lnTo>
                  <a:pt x="27008" y="21600"/>
                </a:lnTo>
                <a:lnTo>
                  <a:pt x="25608" y="20200"/>
                </a:lnTo>
                <a:lnTo>
                  <a:pt x="25608" y="1400"/>
                </a:lnTo>
                <a:close/>
              </a:path>
              <a:path fill="darkenLess" w="27008" h="21600">
                <a:moveTo>
                  <a:pt x="27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8" y="20200"/>
                </a:lnTo>
                <a:close/>
              </a:path>
              <a:path fill="lighten" w="27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8" h="21600">
                <a:moveTo>
                  <a:pt x="135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8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40" y="10800"/>
                  <a:pt x="15541" y="10800"/>
                </a:cubicBezTo>
                <a:cubicBezTo>
                  <a:pt x="16672" y="10800"/>
                  <a:pt x="17569" y="9434"/>
                  <a:pt x="17569" y="7849"/>
                </a:cubicBezTo>
                <a:cubicBezTo>
                  <a:pt x="17569" y="5534"/>
                  <a:pt x="15715" y="3794"/>
                  <a:pt x="13504" y="3794"/>
                </a:cubicBezTo>
                <a:cubicBezTo>
                  <a:pt x="11293" y="3794"/>
                  <a:pt x="9622" y="5534"/>
                  <a:pt x="9622" y="7849"/>
                </a:cubicBezTo>
                <a:lnTo>
                  <a:pt x="11476" y="7849"/>
                </a:lnTo>
                <a:cubicBezTo>
                  <a:pt x="11476" y="6709"/>
                  <a:pt x="12399" y="5821"/>
                  <a:pt x="13504" y="5821"/>
                </a:cubicBezTo>
                <a:cubicBezTo>
                  <a:pt x="14609" y="5821"/>
                  <a:pt x="15541" y="6709"/>
                  <a:pt x="15541" y="7849"/>
                </a:cubicBezTo>
                <a:cubicBezTo>
                  <a:pt x="15541" y="8589"/>
                  <a:pt x="15071" y="9320"/>
                  <a:pt x="14609" y="9320"/>
                </a:cubicBezTo>
                <a:cubicBezTo>
                  <a:pt x="13504" y="9320"/>
                  <a:pt x="12399" y="10800"/>
                  <a:pt x="12399" y="12323"/>
                </a:cubicBezTo>
                <a:lnTo>
                  <a:pt x="12399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at is a radioactive isotop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n isotope that has an unstable nucleus and undergoes radioactive decay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010280" y="716292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12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99" h="21600">
                <a:moveTo>
                  <a:pt x="13705" y="14281"/>
                </a:moveTo>
                <a:lnTo>
                  <a:pt x="13705" y="12323"/>
                </a:lnTo>
                <a:cubicBezTo>
                  <a:pt x="13705" y="11496"/>
                  <a:pt x="14036" y="10800"/>
                  <a:pt x="14636" y="10800"/>
                </a:cubicBezTo>
                <a:cubicBezTo>
                  <a:pt x="15768" y="10800"/>
                  <a:pt x="16664" y="9434"/>
                  <a:pt x="16664" y="7849"/>
                </a:cubicBezTo>
                <a:cubicBezTo>
                  <a:pt x="16664" y="5534"/>
                  <a:pt x="14810" y="3794"/>
                  <a:pt x="12600" y="3794"/>
                </a:cubicBezTo>
                <a:cubicBezTo>
                  <a:pt x="10389" y="3794"/>
                  <a:pt x="8718" y="5534"/>
                  <a:pt x="8718" y="7849"/>
                </a:cubicBezTo>
                <a:lnTo>
                  <a:pt x="10572" y="7849"/>
                </a:lnTo>
                <a:cubicBezTo>
                  <a:pt x="10572" y="6709"/>
                  <a:pt x="11494" y="5821"/>
                  <a:pt x="12600" y="5821"/>
                </a:cubicBezTo>
                <a:cubicBezTo>
                  <a:pt x="13705" y="5821"/>
                  <a:pt x="14636" y="6709"/>
                  <a:pt x="14636" y="7849"/>
                </a:cubicBezTo>
                <a:cubicBezTo>
                  <a:pt x="14636" y="8589"/>
                  <a:pt x="14166" y="9320"/>
                  <a:pt x="13705" y="9320"/>
                </a:cubicBezTo>
                <a:cubicBezTo>
                  <a:pt x="12600" y="9320"/>
                  <a:pt x="11494" y="10800"/>
                  <a:pt x="11494" y="12323"/>
                </a:cubicBezTo>
                <a:lnTo>
                  <a:pt x="1149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subatomic particle is beta radiation composed of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lectr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7315200" y="73915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119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7" h="21600">
                <a:moveTo>
                  <a:pt x="13104" y="14281"/>
                </a:moveTo>
                <a:lnTo>
                  <a:pt x="13104" y="12323"/>
                </a:lnTo>
                <a:cubicBezTo>
                  <a:pt x="13104" y="11496"/>
                  <a:pt x="13435" y="10800"/>
                  <a:pt x="14035" y="10800"/>
                </a:cubicBezTo>
                <a:cubicBezTo>
                  <a:pt x="15167" y="10800"/>
                  <a:pt x="16063" y="9434"/>
                  <a:pt x="16063" y="7849"/>
                </a:cubicBezTo>
                <a:cubicBezTo>
                  <a:pt x="16063" y="5534"/>
                  <a:pt x="14209" y="3794"/>
                  <a:pt x="11999" y="3794"/>
                </a:cubicBezTo>
                <a:cubicBezTo>
                  <a:pt x="9788" y="3794"/>
                  <a:pt x="8117" y="5534"/>
                  <a:pt x="8117" y="7849"/>
                </a:cubicBezTo>
                <a:lnTo>
                  <a:pt x="9971" y="7849"/>
                </a:lnTo>
                <a:cubicBezTo>
                  <a:pt x="9971" y="6709"/>
                  <a:pt x="10893" y="5821"/>
                  <a:pt x="11999" y="5821"/>
                </a:cubicBezTo>
                <a:cubicBezTo>
                  <a:pt x="13104" y="5821"/>
                  <a:pt x="14035" y="6709"/>
                  <a:pt x="14035" y="7849"/>
                </a:cubicBezTo>
                <a:cubicBezTo>
                  <a:pt x="14035" y="8589"/>
                  <a:pt x="13565" y="9320"/>
                  <a:pt x="13104" y="9320"/>
                </a:cubicBezTo>
                <a:cubicBezTo>
                  <a:pt x="11999" y="9320"/>
                  <a:pt x="10893" y="10800"/>
                  <a:pt x="10893" y="12323"/>
                </a:cubicBezTo>
                <a:lnTo>
                  <a:pt x="1089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isotope is more abundant?  F-19 or F-22 given an atomic mass of 20.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-1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1" action="ppaction://hlinksldjump"/>
          </p:cNvPr>
          <p:cNvSpPr/>
          <p:nvPr/>
        </p:nvSpPr>
        <p:spPr>
          <a:xfrm>
            <a:off x="6477120" y="7772400"/>
            <a:ext cx="2057400" cy="1447920"/>
          </a:xfrm>
          <a:custGeom>
            <a:avLst/>
            <a:gdLst>
              <a:gd name="textAreaLeft" fmla="*/ 93600 w 2057400"/>
              <a:gd name="textAreaRight" fmla="*/ 1963800 w 20574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0690" h="21600">
                <a:moveTo>
                  <a:pt x="0" y="0"/>
                </a:moveTo>
                <a:lnTo>
                  <a:pt x="30690" y="0"/>
                </a:lnTo>
                <a:lnTo>
                  <a:pt x="30690" y="21600"/>
                </a:lnTo>
                <a:lnTo>
                  <a:pt x="0" y="21600"/>
                </a:lnTo>
                <a:close/>
              </a:path>
              <a:path fill="lightenLess" w="30690" h="21600">
                <a:moveTo>
                  <a:pt x="0" y="0"/>
                </a:moveTo>
                <a:lnTo>
                  <a:pt x="30690" y="0"/>
                </a:lnTo>
                <a:lnTo>
                  <a:pt x="29290" y="1400"/>
                </a:lnTo>
                <a:lnTo>
                  <a:pt x="1400" y="1400"/>
                </a:lnTo>
                <a:close/>
              </a:path>
              <a:path fill="darken" w="30690" h="21600">
                <a:moveTo>
                  <a:pt x="30690" y="0"/>
                </a:moveTo>
                <a:lnTo>
                  <a:pt x="30690" y="21600"/>
                </a:lnTo>
                <a:lnTo>
                  <a:pt x="29290" y="20200"/>
                </a:lnTo>
                <a:lnTo>
                  <a:pt x="29290" y="1400"/>
                </a:lnTo>
                <a:close/>
              </a:path>
              <a:path fill="darkenLess" w="30690" h="21600">
                <a:moveTo>
                  <a:pt x="30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0" y="20200"/>
                </a:lnTo>
                <a:close/>
              </a:path>
              <a:path fill="lighten" w="30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0" h="21600">
                <a:moveTo>
                  <a:pt x="153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90" h="21600">
                <a:moveTo>
                  <a:pt x="16450" y="14281"/>
                </a:moveTo>
                <a:lnTo>
                  <a:pt x="16450" y="12323"/>
                </a:lnTo>
                <a:cubicBezTo>
                  <a:pt x="16450" y="11496"/>
                  <a:pt x="16781" y="10800"/>
                  <a:pt x="17382" y="10800"/>
                </a:cubicBezTo>
                <a:cubicBezTo>
                  <a:pt x="18513" y="10800"/>
                  <a:pt x="19410" y="9434"/>
                  <a:pt x="19410" y="7849"/>
                </a:cubicBezTo>
                <a:cubicBezTo>
                  <a:pt x="19410" y="5534"/>
                  <a:pt x="17556" y="3794"/>
                  <a:pt x="15345" y="3794"/>
                </a:cubicBezTo>
                <a:cubicBezTo>
                  <a:pt x="13134" y="3794"/>
                  <a:pt x="11463" y="5534"/>
                  <a:pt x="11463" y="7849"/>
                </a:cubicBezTo>
                <a:lnTo>
                  <a:pt x="13317" y="7849"/>
                </a:lnTo>
                <a:cubicBezTo>
                  <a:pt x="13317" y="6709"/>
                  <a:pt x="14240" y="5821"/>
                  <a:pt x="15345" y="5821"/>
                </a:cubicBezTo>
                <a:cubicBezTo>
                  <a:pt x="16450" y="5821"/>
                  <a:pt x="17382" y="6709"/>
                  <a:pt x="17382" y="7849"/>
                </a:cubicBezTo>
                <a:cubicBezTo>
                  <a:pt x="17382" y="8589"/>
                  <a:pt x="16912" y="9320"/>
                  <a:pt x="16450" y="9320"/>
                </a:cubicBezTo>
                <a:cubicBezTo>
                  <a:pt x="15345" y="9320"/>
                  <a:pt x="14240" y="10800"/>
                  <a:pt x="14240" y="12323"/>
                </a:cubicBezTo>
                <a:lnTo>
                  <a:pt x="1424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decay would occur in an isotope that has 4 neutrons and 2 prot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Beta radi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67057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type of radiation has the least penetrating powe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lph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6705720" y="7391520"/>
            <a:ext cx="1447560" cy="144756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do the mass of a proton and the mass of a neuron compar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y are roughly the sa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7543800" y="7543800"/>
            <a:ext cx="1600200" cy="1447920"/>
          </a:xfrm>
          <a:custGeom>
            <a:avLst/>
            <a:gdLst>
              <a:gd name="textAreaLeft" fmla="*/ 93600 w 1600200"/>
              <a:gd name="textAreaRight" fmla="*/ 1506600 w 16002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3871" h="21600">
                <a:moveTo>
                  <a:pt x="0" y="0"/>
                </a:moveTo>
                <a:lnTo>
                  <a:pt x="23871" y="0"/>
                </a:lnTo>
                <a:lnTo>
                  <a:pt x="23871" y="21600"/>
                </a:lnTo>
                <a:lnTo>
                  <a:pt x="0" y="21600"/>
                </a:lnTo>
                <a:close/>
              </a:path>
              <a:path fill="lightenLess" w="23871" h="21600">
                <a:moveTo>
                  <a:pt x="0" y="0"/>
                </a:moveTo>
                <a:lnTo>
                  <a:pt x="23871" y="0"/>
                </a:lnTo>
                <a:lnTo>
                  <a:pt x="22471" y="1400"/>
                </a:lnTo>
                <a:lnTo>
                  <a:pt x="1400" y="1400"/>
                </a:lnTo>
                <a:close/>
              </a:path>
              <a:path fill="darken" w="23871" h="21600">
                <a:moveTo>
                  <a:pt x="23871" y="0"/>
                </a:moveTo>
                <a:lnTo>
                  <a:pt x="23871" y="21600"/>
                </a:lnTo>
                <a:lnTo>
                  <a:pt x="22471" y="20200"/>
                </a:lnTo>
                <a:lnTo>
                  <a:pt x="22471" y="1400"/>
                </a:lnTo>
                <a:close/>
              </a:path>
              <a:path fill="darkenLess" w="23871" h="21600">
                <a:moveTo>
                  <a:pt x="23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1" y="20200"/>
                </a:lnTo>
                <a:close/>
              </a:path>
              <a:path fill="lighten" w="23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1" h="21600">
                <a:moveTo>
                  <a:pt x="119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71" h="21600">
                <a:moveTo>
                  <a:pt x="13041" y="14281"/>
                </a:moveTo>
                <a:lnTo>
                  <a:pt x="13041" y="12323"/>
                </a:lnTo>
                <a:cubicBezTo>
                  <a:pt x="13041" y="11496"/>
                  <a:pt x="13372" y="10800"/>
                  <a:pt x="13972" y="10800"/>
                </a:cubicBezTo>
                <a:cubicBezTo>
                  <a:pt x="15104" y="10800"/>
                  <a:pt x="16000" y="9434"/>
                  <a:pt x="16000" y="7849"/>
                </a:cubicBezTo>
                <a:cubicBezTo>
                  <a:pt x="16000" y="5534"/>
                  <a:pt x="14146" y="3794"/>
                  <a:pt x="11936" y="3794"/>
                </a:cubicBezTo>
                <a:cubicBezTo>
                  <a:pt x="9725" y="3794"/>
                  <a:pt x="8054" y="5534"/>
                  <a:pt x="8054" y="7849"/>
                </a:cubicBezTo>
                <a:lnTo>
                  <a:pt x="9908" y="7849"/>
                </a:lnTo>
                <a:cubicBezTo>
                  <a:pt x="9908" y="6709"/>
                  <a:pt x="10830" y="5821"/>
                  <a:pt x="11936" y="5821"/>
                </a:cubicBezTo>
                <a:cubicBezTo>
                  <a:pt x="13041" y="5821"/>
                  <a:pt x="13972" y="6709"/>
                  <a:pt x="13972" y="7849"/>
                </a:cubicBezTo>
                <a:cubicBezTo>
                  <a:pt x="13972" y="8589"/>
                  <a:pt x="13502" y="9320"/>
                  <a:pt x="13041" y="9320"/>
                </a:cubicBezTo>
                <a:cubicBezTo>
                  <a:pt x="11936" y="9320"/>
                  <a:pt x="10830" y="10800"/>
                  <a:pt x="10830" y="12323"/>
                </a:cubicBezTo>
                <a:lnTo>
                  <a:pt x="1083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theorist was incorrect to say that all atoms of a given element are identica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John Dalt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6858000" y="8001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are alpha particles composed of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ositively charged helium 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0">
              <a:spcBef>
                <a:spcPts val="1800"/>
              </a:spcBef>
              <a:buNone/>
              <a:tabLst>
                <a:tab algn="l" pos="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7238880" y="7696080"/>
            <a:ext cx="1524240" cy="1295640"/>
          </a:xfrm>
          <a:custGeom>
            <a:avLst/>
            <a:gdLst>
              <a:gd name="textAreaLeft" fmla="*/ 83880 w 1524240"/>
              <a:gd name="textAreaRight" fmla="*/ 1440360 w 15242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127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10" h="21600">
                <a:moveTo>
                  <a:pt x="13810" y="14281"/>
                </a:moveTo>
                <a:lnTo>
                  <a:pt x="13810" y="12323"/>
                </a:lnTo>
                <a:cubicBezTo>
                  <a:pt x="13810" y="11496"/>
                  <a:pt x="14141" y="10800"/>
                  <a:pt x="14742" y="10800"/>
                </a:cubicBezTo>
                <a:cubicBezTo>
                  <a:pt x="15873" y="10800"/>
                  <a:pt x="16770" y="9434"/>
                  <a:pt x="16770" y="7849"/>
                </a:cubicBezTo>
                <a:cubicBezTo>
                  <a:pt x="16770" y="5534"/>
                  <a:pt x="14916" y="3794"/>
                  <a:pt x="12705" y="3794"/>
                </a:cubicBezTo>
                <a:cubicBezTo>
                  <a:pt x="10494" y="3794"/>
                  <a:pt x="8823" y="5534"/>
                  <a:pt x="8823" y="7849"/>
                </a:cubicBezTo>
                <a:lnTo>
                  <a:pt x="10677" y="7849"/>
                </a:lnTo>
                <a:cubicBezTo>
                  <a:pt x="10677" y="6709"/>
                  <a:pt x="11600" y="5821"/>
                  <a:pt x="12705" y="5821"/>
                </a:cubicBezTo>
                <a:cubicBezTo>
                  <a:pt x="13810" y="5821"/>
                  <a:pt x="14742" y="6709"/>
                  <a:pt x="14742" y="7849"/>
                </a:cubicBezTo>
                <a:cubicBezTo>
                  <a:pt x="14742" y="8589"/>
                  <a:pt x="14272" y="9320"/>
                  <a:pt x="13810" y="9320"/>
                </a:cubicBezTo>
                <a:cubicBezTo>
                  <a:pt x="12705" y="9320"/>
                  <a:pt x="11600" y="10800"/>
                  <a:pt x="11600" y="12323"/>
                </a:cubicBezTo>
                <a:lnTo>
                  <a:pt x="1160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What type of nuclear reaction occurs in small nuclei to bring about stability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us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1" action="ppaction://hlinksldjump"/>
          </p:cNvPr>
          <p:cNvSpPr/>
          <p:nvPr/>
        </p:nvSpPr>
        <p:spPr>
          <a:xfrm>
            <a:off x="7162920" y="76960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9" h="21600">
                <a:moveTo>
                  <a:pt x="14065" y="14281"/>
                </a:moveTo>
                <a:lnTo>
                  <a:pt x="14065" y="12323"/>
                </a:lnTo>
                <a:cubicBezTo>
                  <a:pt x="14065" y="11496"/>
                  <a:pt x="14395" y="10800"/>
                  <a:pt x="14996" y="10800"/>
                </a:cubicBezTo>
                <a:cubicBezTo>
                  <a:pt x="16127" y="10800"/>
                  <a:pt x="17024" y="9434"/>
                  <a:pt x="17024" y="7849"/>
                </a:cubicBezTo>
                <a:cubicBezTo>
                  <a:pt x="17024" y="5534"/>
                  <a:pt x="15170" y="3794"/>
                  <a:pt x="12959" y="3794"/>
                </a:cubicBezTo>
                <a:cubicBezTo>
                  <a:pt x="10749" y="3794"/>
                  <a:pt x="9077" y="5534"/>
                  <a:pt x="9077" y="7849"/>
                </a:cubicBezTo>
                <a:lnTo>
                  <a:pt x="10931" y="7849"/>
                </a:lnTo>
                <a:cubicBezTo>
                  <a:pt x="10931" y="6709"/>
                  <a:pt x="11854" y="5821"/>
                  <a:pt x="12959" y="5821"/>
                </a:cubicBezTo>
                <a:cubicBezTo>
                  <a:pt x="14065" y="5821"/>
                  <a:pt x="14996" y="6709"/>
                  <a:pt x="14996" y="7849"/>
                </a:cubicBezTo>
                <a:cubicBezTo>
                  <a:pt x="14996" y="8589"/>
                  <a:pt x="14526" y="9320"/>
                  <a:pt x="14065" y="9320"/>
                </a:cubicBezTo>
                <a:cubicBezTo>
                  <a:pt x="12959" y="9320"/>
                  <a:pt x="11854" y="10800"/>
                  <a:pt x="11854" y="12323"/>
                </a:cubicBezTo>
                <a:lnTo>
                  <a:pt x="1185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particles caused maximum deflection of alpha particles in Rutherford’s experi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rot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rId1" action="ppaction://hlinksldjump"/>
          </p:cNvPr>
          <p:cNvSpPr/>
          <p:nvPr/>
        </p:nvSpPr>
        <p:spPr>
          <a:xfrm>
            <a:off x="7238880" y="784872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4" h="21600">
                <a:moveTo>
                  <a:pt x="122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84" h="21600">
                <a:moveTo>
                  <a:pt x="13347" y="14281"/>
                </a:moveTo>
                <a:lnTo>
                  <a:pt x="13347" y="12323"/>
                </a:lnTo>
                <a:cubicBezTo>
                  <a:pt x="13347" y="11496"/>
                  <a:pt x="13678" y="10800"/>
                  <a:pt x="14278" y="10800"/>
                </a:cubicBezTo>
                <a:cubicBezTo>
                  <a:pt x="15410" y="10800"/>
                  <a:pt x="16306" y="9434"/>
                  <a:pt x="16306" y="7849"/>
                </a:cubicBezTo>
                <a:cubicBezTo>
                  <a:pt x="16306" y="5534"/>
                  <a:pt x="14453" y="3794"/>
                  <a:pt x="12242" y="3794"/>
                </a:cubicBezTo>
                <a:cubicBezTo>
                  <a:pt x="10031" y="3794"/>
                  <a:pt x="8360" y="5534"/>
                  <a:pt x="8360" y="7849"/>
                </a:cubicBezTo>
                <a:lnTo>
                  <a:pt x="10214" y="7849"/>
                </a:lnTo>
                <a:cubicBezTo>
                  <a:pt x="10214" y="6709"/>
                  <a:pt x="11136" y="5821"/>
                  <a:pt x="12242" y="5821"/>
                </a:cubicBezTo>
                <a:cubicBezTo>
                  <a:pt x="13347" y="5821"/>
                  <a:pt x="14278" y="6709"/>
                  <a:pt x="14278" y="7849"/>
                </a:cubicBezTo>
                <a:cubicBezTo>
                  <a:pt x="14278" y="8589"/>
                  <a:pt x="13808" y="9320"/>
                  <a:pt x="13347" y="9320"/>
                </a:cubicBezTo>
                <a:cubicBezTo>
                  <a:pt x="12242" y="9320"/>
                  <a:pt x="11136" y="10800"/>
                  <a:pt x="11136" y="12323"/>
                </a:cubicBezTo>
                <a:lnTo>
                  <a:pt x="1113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Changes in the number of these particles result in 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lectr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6934320" y="77724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1367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354" h="21600">
                <a:moveTo>
                  <a:pt x="14782" y="14281"/>
                </a:moveTo>
                <a:lnTo>
                  <a:pt x="14782" y="12323"/>
                </a:lnTo>
                <a:cubicBezTo>
                  <a:pt x="14782" y="11496"/>
                  <a:pt x="15113" y="10800"/>
                  <a:pt x="15713" y="10800"/>
                </a:cubicBezTo>
                <a:cubicBezTo>
                  <a:pt x="16845" y="10800"/>
                  <a:pt x="17741" y="9434"/>
                  <a:pt x="17741" y="7849"/>
                </a:cubicBezTo>
                <a:cubicBezTo>
                  <a:pt x="17741" y="5534"/>
                  <a:pt x="15888" y="3794"/>
                  <a:pt x="13677" y="3794"/>
                </a:cubicBezTo>
                <a:cubicBezTo>
                  <a:pt x="11466" y="3794"/>
                  <a:pt x="9795" y="5534"/>
                  <a:pt x="9795" y="7849"/>
                </a:cubicBezTo>
                <a:lnTo>
                  <a:pt x="11649" y="7849"/>
                </a:lnTo>
                <a:cubicBezTo>
                  <a:pt x="11649" y="6709"/>
                  <a:pt x="12571" y="5821"/>
                  <a:pt x="13677" y="5821"/>
                </a:cubicBezTo>
                <a:cubicBezTo>
                  <a:pt x="14782" y="5821"/>
                  <a:pt x="15713" y="6709"/>
                  <a:pt x="15713" y="7849"/>
                </a:cubicBezTo>
                <a:cubicBezTo>
                  <a:pt x="15713" y="8589"/>
                  <a:pt x="15243" y="9320"/>
                  <a:pt x="14782" y="9320"/>
                </a:cubicBezTo>
                <a:cubicBezTo>
                  <a:pt x="13677" y="9320"/>
                  <a:pt x="12571" y="10800"/>
                  <a:pt x="12571" y="12323"/>
                </a:cubicBezTo>
                <a:lnTo>
                  <a:pt x="1257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equation accounts for the conversion of mass into energy in nuclear reaction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=mc</a:t>
            </a:r>
            <a:r>
              <a:rPr b="0" lang="en-US" sz="7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7620120"/>
            <a:ext cx="1295280" cy="12952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particles did Rutherford use in his experi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lpha particl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73152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82" h="21600">
                <a:moveTo>
                  <a:pt x="113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682" h="21600">
                <a:moveTo>
                  <a:pt x="12446" y="14281"/>
                </a:moveTo>
                <a:lnTo>
                  <a:pt x="12446" y="12323"/>
                </a:lnTo>
                <a:cubicBezTo>
                  <a:pt x="12446" y="11496"/>
                  <a:pt x="12777" y="10800"/>
                  <a:pt x="13377" y="10800"/>
                </a:cubicBezTo>
                <a:cubicBezTo>
                  <a:pt x="14509" y="10800"/>
                  <a:pt x="15405" y="9434"/>
                  <a:pt x="15405" y="7849"/>
                </a:cubicBezTo>
                <a:cubicBezTo>
                  <a:pt x="15405" y="5534"/>
                  <a:pt x="13552" y="3794"/>
                  <a:pt x="11341" y="3794"/>
                </a:cubicBezTo>
                <a:cubicBezTo>
                  <a:pt x="9130" y="3794"/>
                  <a:pt x="7459" y="5534"/>
                  <a:pt x="7459" y="7849"/>
                </a:cubicBezTo>
                <a:lnTo>
                  <a:pt x="9313" y="7849"/>
                </a:lnTo>
                <a:cubicBezTo>
                  <a:pt x="9313" y="6709"/>
                  <a:pt x="10235" y="5821"/>
                  <a:pt x="11341" y="5821"/>
                </a:cubicBezTo>
                <a:cubicBezTo>
                  <a:pt x="12446" y="5821"/>
                  <a:pt x="13377" y="6709"/>
                  <a:pt x="13377" y="7849"/>
                </a:cubicBezTo>
                <a:cubicBezTo>
                  <a:pt x="13377" y="8589"/>
                  <a:pt x="12907" y="9320"/>
                  <a:pt x="12446" y="9320"/>
                </a:cubicBezTo>
                <a:cubicBezTo>
                  <a:pt x="11341" y="9320"/>
                  <a:pt x="10235" y="10800"/>
                  <a:pt x="10235" y="12323"/>
                </a:cubicBezTo>
                <a:lnTo>
                  <a:pt x="1023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65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Q  What subatomic particle was discovered by inference to account for the discrepancy between particle mass and atomic mas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A  Neutr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38880" y="7696080"/>
            <a:ext cx="1524240" cy="1447920"/>
          </a:xfrm>
          <a:custGeom>
            <a:avLst/>
            <a:gdLst>
              <a:gd name="textAreaLeft" fmla="*/ 93600 w 1524240"/>
              <a:gd name="textAreaRight" fmla="*/ 1430640 w 15242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2738" h="21600">
                <a:moveTo>
                  <a:pt x="0" y="0"/>
                </a:moveTo>
                <a:lnTo>
                  <a:pt x="22738" y="0"/>
                </a:lnTo>
                <a:lnTo>
                  <a:pt x="22738" y="21600"/>
                </a:lnTo>
                <a:lnTo>
                  <a:pt x="0" y="21600"/>
                </a:lnTo>
                <a:close/>
              </a:path>
              <a:path fill="lightenLess" w="22738" h="21600">
                <a:moveTo>
                  <a:pt x="0" y="0"/>
                </a:moveTo>
                <a:lnTo>
                  <a:pt x="22738" y="0"/>
                </a:lnTo>
                <a:lnTo>
                  <a:pt x="21338" y="1400"/>
                </a:lnTo>
                <a:lnTo>
                  <a:pt x="1400" y="1400"/>
                </a:lnTo>
                <a:close/>
              </a:path>
              <a:path fill="darken" w="22738" h="21600">
                <a:moveTo>
                  <a:pt x="22738" y="0"/>
                </a:moveTo>
                <a:lnTo>
                  <a:pt x="22738" y="21600"/>
                </a:lnTo>
                <a:lnTo>
                  <a:pt x="21338" y="20200"/>
                </a:lnTo>
                <a:lnTo>
                  <a:pt x="21338" y="1400"/>
                </a:lnTo>
                <a:close/>
              </a:path>
              <a:path fill="darkenLess" w="22738" h="21600">
                <a:moveTo>
                  <a:pt x="22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8" y="20200"/>
                </a:lnTo>
                <a:close/>
              </a:path>
              <a:path fill="lighten" w="22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8" h="21600">
                <a:moveTo>
                  <a:pt x="113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8" h="21600">
                <a:moveTo>
                  <a:pt x="12474" y="14281"/>
                </a:moveTo>
                <a:lnTo>
                  <a:pt x="12474" y="12323"/>
                </a:lnTo>
                <a:cubicBezTo>
                  <a:pt x="12474" y="11496"/>
                  <a:pt x="12805" y="10800"/>
                  <a:pt x="13406" y="10800"/>
                </a:cubicBezTo>
                <a:cubicBezTo>
                  <a:pt x="14537" y="10800"/>
                  <a:pt x="15434" y="9434"/>
                  <a:pt x="15434" y="7849"/>
                </a:cubicBezTo>
                <a:cubicBezTo>
                  <a:pt x="15434" y="5534"/>
                  <a:pt x="13580" y="3794"/>
                  <a:pt x="11369" y="3794"/>
                </a:cubicBezTo>
                <a:cubicBezTo>
                  <a:pt x="9158" y="3794"/>
                  <a:pt x="7487" y="5534"/>
                  <a:pt x="7487" y="7849"/>
                </a:cubicBezTo>
                <a:lnTo>
                  <a:pt x="9341" y="7849"/>
                </a:lnTo>
                <a:cubicBezTo>
                  <a:pt x="9341" y="6709"/>
                  <a:pt x="10264" y="5821"/>
                  <a:pt x="11369" y="5821"/>
                </a:cubicBezTo>
                <a:cubicBezTo>
                  <a:pt x="12474" y="5821"/>
                  <a:pt x="13406" y="6709"/>
                  <a:pt x="13406" y="7849"/>
                </a:cubicBezTo>
                <a:cubicBezTo>
                  <a:pt x="13406" y="8589"/>
                  <a:pt x="12936" y="9320"/>
                  <a:pt x="12474" y="9320"/>
                </a:cubicBezTo>
                <a:cubicBezTo>
                  <a:pt x="11369" y="9320"/>
                  <a:pt x="10264" y="10800"/>
                  <a:pt x="10264" y="12323"/>
                </a:cubicBezTo>
                <a:lnTo>
                  <a:pt x="1026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type of radiation would not be deflected by a magne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Gamm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81680" y="7848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Daily Doubl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How Much will you Wager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ailydouble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Daily Doubl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How Much will you Wager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ailydoubl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was responsible for the discovery of the electron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JJ Thoms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6477120" y="8077320"/>
            <a:ext cx="2819160" cy="1981080"/>
          </a:xfrm>
          <a:custGeom>
            <a:avLst/>
            <a:gdLst>
              <a:gd name="textAreaLeft" fmla="*/ 128160 w 2819160"/>
              <a:gd name="textAreaRight" fmla="*/ 2691000 w 281916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0736" h="21600">
                <a:moveTo>
                  <a:pt x="0" y="0"/>
                </a:moveTo>
                <a:lnTo>
                  <a:pt x="30736" y="0"/>
                </a:lnTo>
                <a:lnTo>
                  <a:pt x="30736" y="21600"/>
                </a:lnTo>
                <a:lnTo>
                  <a:pt x="0" y="21600"/>
                </a:lnTo>
                <a:close/>
              </a:path>
              <a:path fill="lightenLess" w="30736" h="21600">
                <a:moveTo>
                  <a:pt x="0" y="0"/>
                </a:moveTo>
                <a:lnTo>
                  <a:pt x="30736" y="0"/>
                </a:lnTo>
                <a:lnTo>
                  <a:pt x="29336" y="1400"/>
                </a:lnTo>
                <a:lnTo>
                  <a:pt x="1400" y="1400"/>
                </a:lnTo>
                <a:close/>
              </a:path>
              <a:path fill="darken" w="30736" h="21600">
                <a:moveTo>
                  <a:pt x="30736" y="0"/>
                </a:moveTo>
                <a:lnTo>
                  <a:pt x="30736" y="21600"/>
                </a:lnTo>
                <a:lnTo>
                  <a:pt x="29336" y="20200"/>
                </a:lnTo>
                <a:lnTo>
                  <a:pt x="29336" y="1400"/>
                </a:lnTo>
                <a:close/>
              </a:path>
              <a:path fill="darkenLess" w="30736" h="21600">
                <a:moveTo>
                  <a:pt x="30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6" y="20200"/>
                </a:lnTo>
                <a:close/>
              </a:path>
              <a:path fill="lighten" w="30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6" h="21600">
                <a:moveTo>
                  <a:pt x="153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736" h="21600">
                <a:moveTo>
                  <a:pt x="16473" y="14281"/>
                </a:moveTo>
                <a:lnTo>
                  <a:pt x="16473" y="12323"/>
                </a:lnTo>
                <a:cubicBezTo>
                  <a:pt x="16473" y="11496"/>
                  <a:pt x="16804" y="10800"/>
                  <a:pt x="17405" y="10800"/>
                </a:cubicBezTo>
                <a:cubicBezTo>
                  <a:pt x="18536" y="10800"/>
                  <a:pt x="19433" y="9434"/>
                  <a:pt x="19433" y="7849"/>
                </a:cubicBezTo>
                <a:cubicBezTo>
                  <a:pt x="19433" y="5534"/>
                  <a:pt x="17579" y="3794"/>
                  <a:pt x="15368" y="3794"/>
                </a:cubicBezTo>
                <a:cubicBezTo>
                  <a:pt x="13157" y="3794"/>
                  <a:pt x="11486" y="5534"/>
                  <a:pt x="11486" y="7849"/>
                </a:cubicBezTo>
                <a:lnTo>
                  <a:pt x="13340" y="7849"/>
                </a:lnTo>
                <a:cubicBezTo>
                  <a:pt x="13340" y="6709"/>
                  <a:pt x="14263" y="5821"/>
                  <a:pt x="15368" y="5821"/>
                </a:cubicBezTo>
                <a:cubicBezTo>
                  <a:pt x="16473" y="5821"/>
                  <a:pt x="17405" y="6709"/>
                  <a:pt x="17405" y="7849"/>
                </a:cubicBezTo>
                <a:cubicBezTo>
                  <a:pt x="17405" y="8589"/>
                  <a:pt x="16935" y="9320"/>
                  <a:pt x="16473" y="9320"/>
                </a:cubicBezTo>
                <a:cubicBezTo>
                  <a:pt x="15368" y="9320"/>
                  <a:pt x="14263" y="10800"/>
                  <a:pt x="14263" y="12323"/>
                </a:cubicBezTo>
                <a:lnTo>
                  <a:pt x="1426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Daily Doubl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How Much will you Wager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ailydouble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Make your Wa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are Jimmy Neutrons two best friend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arl and She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thinktheme.wav"/>
      </p:stSnd>
    </p:sndAc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058080" y="3921120"/>
            <a:ext cx="155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336240" y="3921120"/>
            <a:ext cx="89866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Jimmy Neutron - Der mutige Erfinder"/>
          <p:cNvPicPr/>
          <p:nvPr/>
        </p:nvPicPr>
        <p:blipFill>
          <a:blip r:embed="rId1"/>
          <a:stretch/>
        </p:blipFill>
        <p:spPr>
          <a:xfrm>
            <a:off x="2590920" y="1677960"/>
            <a:ext cx="10972800" cy="709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Game Ove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4638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of the scientist who performed the gold foil experi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rnest Rutherfor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6934320" y="8077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was responsible for the discovery of the neutr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James Chadwick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2T16:39:25Z</dcterms:created>
  <dc:creator>Compaq</dc:creator>
  <dc:description/>
  <dc:language>en-US</dc:language>
  <cp:lastModifiedBy>udsd</cp:lastModifiedBy>
  <dcterms:modified xsi:type="dcterms:W3CDTF">2008-11-21T16:42:18Z</dcterms:modified>
  <cp:revision>84</cp:revision>
  <dc:subject/>
  <dc:title>Jeopardy</dc:title>
</cp:coreProperties>
</file>